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7EC-0E27-42D2-B1EA-B82F716B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FBB-D016-4E23-80D5-75D8FB8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D0A-9A73-4EE6-8459-89746CB6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BFB-7BE6-4BFD-BF61-D91A2590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479-823F-48BC-A3D7-8ABA58A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33A-BFBA-4269-B700-130B338B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29A-ADBD-4E2F-8324-ED52B63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61F-0F98-4642-9745-3E34D47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763-7810-402D-89DB-13507629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44A-7A1C-4D67-86A8-9478C60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774-7676-4EB9-B21B-C57C4C5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D7A-9969-4962-A04E-C349FFA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7957-DF6A-4FDD-931C-F9888822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3200400"/>
            <a:ext cx="5867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l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152388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Cost of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4" name=""/>
          <p:cNvGraphicFramePr/>
          <p:nvPr/>
        </p:nvGraphicFramePr>
        <p:xfrm>
          <a:off x="0" y="457200"/>
          <a:ext cx="9144000" cy="58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7072200" y="2405160"/>
            <a:ext cx="642960" cy="24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959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709400" y="3182760"/>
            <a:ext cx="777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95320" y="3328920"/>
            <a:ext cx="1081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3543480" y="4295880"/>
            <a:ext cx="0" cy="38232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000160" y="3014640"/>
            <a:ext cx="5343480" cy="127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660760" y="2527200"/>
            <a:ext cx="12600" cy="403200"/>
          </a:xfrm>
          <a:prstGeom prst="line">
            <a:avLst/>
          </a:prstGeom>
          <a:ln w="5076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046240" y="3616200"/>
            <a:ext cx="183852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35520" y="3616200"/>
            <a:ext cx="213660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127920" y="3616200"/>
            <a:ext cx="117792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039760" y="3940200"/>
            <a:ext cx="212256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219560" y="3940200"/>
            <a:ext cx="207648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recting &amp; Preve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342120" y="3940200"/>
            <a:ext cx="96372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044800" y="3295800"/>
            <a:ext cx="201132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06880" y="3295800"/>
            <a:ext cx="178740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946840" y="3295800"/>
            <a:ext cx="1359000" cy="271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81160" y="3024360"/>
            <a:ext cx="519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217600" y="2055960"/>
            <a:ext cx="9003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33640" y="2055960"/>
            <a:ext cx="110988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02360" y="1839960"/>
            <a:ext cx="22683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colm Baldr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903760" y="4683240"/>
            <a:ext cx="138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li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5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474800" y="4683240"/>
            <a:ext cx="1580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O 9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ustry Speci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260760" y="4683240"/>
            <a:ext cx="746640" cy="4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88920" y="762120"/>
            <a:ext cx="9055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usiness System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4381560" y="2527200"/>
            <a:ext cx="12600" cy="403200"/>
          </a:xfrm>
          <a:prstGeom prst="line">
            <a:avLst/>
          </a:prstGeom>
          <a:ln w="5076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329520" y="2527200"/>
            <a:ext cx="12600" cy="403200"/>
          </a:xfrm>
          <a:prstGeom prst="line">
            <a:avLst/>
          </a:prstGeom>
          <a:ln w="5076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5195880" y="4295880"/>
            <a:ext cx="0" cy="38232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610320" y="4295880"/>
            <a:ext cx="0" cy="38232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ponents of Cost of Quality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136600"/>
          <a:ext cx="9144000" cy="20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6600"/>
                    <a:ext cx="914400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evention Cos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plan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 control / performance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of equip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equip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r selection / approv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afd00"/>
              </a:buClr>
              <a:buSzPct val="1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Reviews and audi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raisal Cos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9040" y="2019240"/>
          <a:ext cx="7619760" cy="38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19240"/>
                    <a:ext cx="761976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ilure Cos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l Cos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rap / Was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or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jects / Unsatisfactory wor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ssions / Discount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ystem chang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t produc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-inspec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tra inventor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ncial impact of delay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agement ti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rnal Cos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aint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arranty Claim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stigation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 Recall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675"/>
              </a:spcAft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 Liabilit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t Busines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stomer Dissatisfac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gative Advertising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66"/>
              </a:buClr>
              <a:buSzPct val="1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agement ti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89320"/>
            <a:ext cx="9131400" cy="35686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7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95280"/>
            <a:ext cx="7088400" cy="4878360"/>
          </a:xfrm>
          <a:custGeom>
            <a:avLst/>
            <a:gdLst/>
            <a:ahLst/>
            <a:rect l="l" t="t" r="r" b="b"/>
            <a:pathLst>
              <a:path w="4465" h="3073">
                <a:moveTo>
                  <a:pt x="1968" y="288"/>
                </a:moveTo>
                <a:lnTo>
                  <a:pt x="1920" y="528"/>
                </a:lnTo>
                <a:lnTo>
                  <a:pt x="1728" y="384"/>
                </a:lnTo>
                <a:lnTo>
                  <a:pt x="1584" y="864"/>
                </a:lnTo>
                <a:lnTo>
                  <a:pt x="1344" y="672"/>
                </a:lnTo>
                <a:lnTo>
                  <a:pt x="1152" y="1056"/>
                </a:lnTo>
                <a:lnTo>
                  <a:pt x="768" y="1104"/>
                </a:lnTo>
                <a:lnTo>
                  <a:pt x="768" y="1152"/>
                </a:lnTo>
                <a:lnTo>
                  <a:pt x="672" y="1296"/>
                </a:lnTo>
                <a:lnTo>
                  <a:pt x="432" y="1680"/>
                </a:lnTo>
                <a:lnTo>
                  <a:pt x="192" y="1776"/>
                </a:lnTo>
                <a:lnTo>
                  <a:pt x="0" y="2016"/>
                </a:lnTo>
                <a:lnTo>
                  <a:pt x="144" y="2208"/>
                </a:lnTo>
                <a:lnTo>
                  <a:pt x="240" y="2544"/>
                </a:lnTo>
                <a:lnTo>
                  <a:pt x="816" y="2592"/>
                </a:lnTo>
                <a:lnTo>
                  <a:pt x="960" y="2736"/>
                </a:lnTo>
                <a:lnTo>
                  <a:pt x="1488" y="3072"/>
                </a:lnTo>
                <a:lnTo>
                  <a:pt x="2544" y="3024"/>
                </a:lnTo>
                <a:lnTo>
                  <a:pt x="2832" y="2976"/>
                </a:lnTo>
                <a:lnTo>
                  <a:pt x="3120" y="2736"/>
                </a:lnTo>
                <a:lnTo>
                  <a:pt x="3216" y="2832"/>
                </a:lnTo>
                <a:lnTo>
                  <a:pt x="3696" y="2736"/>
                </a:lnTo>
                <a:lnTo>
                  <a:pt x="3696" y="2592"/>
                </a:lnTo>
                <a:lnTo>
                  <a:pt x="3840" y="2640"/>
                </a:lnTo>
                <a:lnTo>
                  <a:pt x="3984" y="2448"/>
                </a:lnTo>
                <a:lnTo>
                  <a:pt x="4368" y="1776"/>
                </a:lnTo>
                <a:lnTo>
                  <a:pt x="4464" y="1824"/>
                </a:lnTo>
                <a:lnTo>
                  <a:pt x="4272" y="1632"/>
                </a:lnTo>
                <a:lnTo>
                  <a:pt x="3888" y="1632"/>
                </a:lnTo>
                <a:lnTo>
                  <a:pt x="3888" y="1344"/>
                </a:lnTo>
                <a:lnTo>
                  <a:pt x="3552" y="1248"/>
                </a:lnTo>
                <a:lnTo>
                  <a:pt x="3504" y="1008"/>
                </a:lnTo>
                <a:lnTo>
                  <a:pt x="3264" y="1008"/>
                </a:lnTo>
                <a:lnTo>
                  <a:pt x="3168" y="816"/>
                </a:lnTo>
                <a:lnTo>
                  <a:pt x="2976" y="768"/>
                </a:lnTo>
                <a:lnTo>
                  <a:pt x="2928" y="576"/>
                </a:lnTo>
                <a:lnTo>
                  <a:pt x="2736" y="864"/>
                </a:lnTo>
                <a:lnTo>
                  <a:pt x="2592" y="480"/>
                </a:lnTo>
                <a:lnTo>
                  <a:pt x="2448" y="624"/>
                </a:lnTo>
                <a:lnTo>
                  <a:pt x="2256" y="0"/>
                </a:lnTo>
                <a:lnTo>
                  <a:pt x="2208" y="192"/>
                </a:lnTo>
                <a:lnTo>
                  <a:pt x="2064" y="144"/>
                </a:lnTo>
                <a:lnTo>
                  <a:pt x="2064" y="288"/>
                </a:lnTo>
                <a:lnTo>
                  <a:pt x="1968" y="2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72040" y="723960"/>
            <a:ext cx="2287440" cy="325440"/>
          </a:xfrm>
          <a:custGeom>
            <a:avLst/>
            <a:gdLst/>
            <a:ahLst/>
            <a:rect l="l" t="t" r="r" b="b"/>
            <a:pathLst>
              <a:path w="1441" h="205">
                <a:moveTo>
                  <a:pt x="300" y="144"/>
                </a:moveTo>
                <a:lnTo>
                  <a:pt x="336" y="156"/>
                </a:lnTo>
                <a:lnTo>
                  <a:pt x="372" y="156"/>
                </a:lnTo>
                <a:lnTo>
                  <a:pt x="408" y="144"/>
                </a:lnTo>
                <a:lnTo>
                  <a:pt x="444" y="144"/>
                </a:lnTo>
                <a:lnTo>
                  <a:pt x="480" y="132"/>
                </a:lnTo>
                <a:lnTo>
                  <a:pt x="516" y="120"/>
                </a:lnTo>
                <a:lnTo>
                  <a:pt x="552" y="132"/>
                </a:lnTo>
                <a:lnTo>
                  <a:pt x="588" y="144"/>
                </a:lnTo>
                <a:lnTo>
                  <a:pt x="624" y="144"/>
                </a:lnTo>
                <a:lnTo>
                  <a:pt x="660" y="156"/>
                </a:lnTo>
                <a:lnTo>
                  <a:pt x="696" y="168"/>
                </a:lnTo>
                <a:lnTo>
                  <a:pt x="732" y="168"/>
                </a:lnTo>
                <a:lnTo>
                  <a:pt x="768" y="168"/>
                </a:lnTo>
                <a:lnTo>
                  <a:pt x="804" y="168"/>
                </a:lnTo>
                <a:lnTo>
                  <a:pt x="840" y="156"/>
                </a:lnTo>
                <a:lnTo>
                  <a:pt x="876" y="156"/>
                </a:lnTo>
                <a:lnTo>
                  <a:pt x="912" y="156"/>
                </a:lnTo>
                <a:lnTo>
                  <a:pt x="948" y="156"/>
                </a:lnTo>
                <a:lnTo>
                  <a:pt x="984" y="156"/>
                </a:lnTo>
                <a:lnTo>
                  <a:pt x="1020" y="156"/>
                </a:lnTo>
                <a:lnTo>
                  <a:pt x="1056" y="144"/>
                </a:lnTo>
                <a:lnTo>
                  <a:pt x="1092" y="144"/>
                </a:lnTo>
                <a:lnTo>
                  <a:pt x="1128" y="144"/>
                </a:lnTo>
                <a:lnTo>
                  <a:pt x="1140" y="108"/>
                </a:lnTo>
                <a:lnTo>
                  <a:pt x="1104" y="96"/>
                </a:lnTo>
                <a:lnTo>
                  <a:pt x="1068" y="96"/>
                </a:lnTo>
                <a:lnTo>
                  <a:pt x="1080" y="60"/>
                </a:lnTo>
                <a:lnTo>
                  <a:pt x="1116" y="60"/>
                </a:lnTo>
                <a:lnTo>
                  <a:pt x="1152" y="60"/>
                </a:lnTo>
                <a:lnTo>
                  <a:pt x="1188" y="60"/>
                </a:lnTo>
                <a:lnTo>
                  <a:pt x="1224" y="60"/>
                </a:lnTo>
                <a:lnTo>
                  <a:pt x="1260" y="60"/>
                </a:lnTo>
                <a:lnTo>
                  <a:pt x="1296" y="60"/>
                </a:lnTo>
                <a:lnTo>
                  <a:pt x="1332" y="60"/>
                </a:lnTo>
                <a:lnTo>
                  <a:pt x="1368" y="60"/>
                </a:lnTo>
                <a:lnTo>
                  <a:pt x="1404" y="60"/>
                </a:lnTo>
                <a:lnTo>
                  <a:pt x="1440" y="48"/>
                </a:lnTo>
                <a:lnTo>
                  <a:pt x="1404" y="36"/>
                </a:lnTo>
                <a:lnTo>
                  <a:pt x="1368" y="24"/>
                </a:lnTo>
                <a:lnTo>
                  <a:pt x="1332" y="12"/>
                </a:lnTo>
                <a:lnTo>
                  <a:pt x="1296" y="12"/>
                </a:lnTo>
                <a:lnTo>
                  <a:pt x="1260" y="12"/>
                </a:lnTo>
                <a:lnTo>
                  <a:pt x="1224" y="0"/>
                </a:lnTo>
                <a:lnTo>
                  <a:pt x="1188" y="0"/>
                </a:lnTo>
                <a:lnTo>
                  <a:pt x="1152" y="0"/>
                </a:lnTo>
                <a:lnTo>
                  <a:pt x="1116" y="12"/>
                </a:lnTo>
                <a:lnTo>
                  <a:pt x="1080" y="12"/>
                </a:lnTo>
                <a:lnTo>
                  <a:pt x="1044" y="36"/>
                </a:lnTo>
                <a:lnTo>
                  <a:pt x="1008" y="60"/>
                </a:lnTo>
                <a:lnTo>
                  <a:pt x="972" y="60"/>
                </a:lnTo>
                <a:lnTo>
                  <a:pt x="936" y="60"/>
                </a:lnTo>
                <a:lnTo>
                  <a:pt x="900" y="60"/>
                </a:lnTo>
                <a:lnTo>
                  <a:pt x="864" y="72"/>
                </a:lnTo>
                <a:lnTo>
                  <a:pt x="828" y="84"/>
                </a:lnTo>
                <a:lnTo>
                  <a:pt x="792" y="84"/>
                </a:lnTo>
                <a:lnTo>
                  <a:pt x="756" y="84"/>
                </a:lnTo>
                <a:lnTo>
                  <a:pt x="720" y="72"/>
                </a:lnTo>
                <a:lnTo>
                  <a:pt x="684" y="72"/>
                </a:lnTo>
                <a:lnTo>
                  <a:pt x="648" y="60"/>
                </a:lnTo>
                <a:lnTo>
                  <a:pt x="612" y="72"/>
                </a:lnTo>
                <a:lnTo>
                  <a:pt x="624" y="108"/>
                </a:lnTo>
                <a:lnTo>
                  <a:pt x="588" y="96"/>
                </a:lnTo>
                <a:lnTo>
                  <a:pt x="552" y="96"/>
                </a:lnTo>
                <a:lnTo>
                  <a:pt x="516" y="96"/>
                </a:lnTo>
                <a:lnTo>
                  <a:pt x="480" y="96"/>
                </a:lnTo>
                <a:lnTo>
                  <a:pt x="444" y="84"/>
                </a:lnTo>
                <a:lnTo>
                  <a:pt x="408" y="84"/>
                </a:lnTo>
                <a:lnTo>
                  <a:pt x="372" y="96"/>
                </a:lnTo>
                <a:lnTo>
                  <a:pt x="336" y="96"/>
                </a:lnTo>
                <a:lnTo>
                  <a:pt x="300" y="96"/>
                </a:lnTo>
                <a:lnTo>
                  <a:pt x="264" y="108"/>
                </a:lnTo>
                <a:lnTo>
                  <a:pt x="228" y="120"/>
                </a:lnTo>
                <a:lnTo>
                  <a:pt x="192" y="132"/>
                </a:lnTo>
                <a:lnTo>
                  <a:pt x="144" y="144"/>
                </a:lnTo>
                <a:lnTo>
                  <a:pt x="108" y="144"/>
                </a:lnTo>
                <a:lnTo>
                  <a:pt x="72" y="156"/>
                </a:lnTo>
                <a:lnTo>
                  <a:pt x="36" y="168"/>
                </a:lnTo>
                <a:lnTo>
                  <a:pt x="0" y="168"/>
                </a:lnTo>
                <a:lnTo>
                  <a:pt x="36" y="168"/>
                </a:lnTo>
                <a:lnTo>
                  <a:pt x="72" y="180"/>
                </a:lnTo>
                <a:lnTo>
                  <a:pt x="108" y="192"/>
                </a:lnTo>
                <a:lnTo>
                  <a:pt x="144" y="192"/>
                </a:lnTo>
                <a:lnTo>
                  <a:pt x="180" y="204"/>
                </a:lnTo>
                <a:lnTo>
                  <a:pt x="216" y="204"/>
                </a:lnTo>
                <a:lnTo>
                  <a:pt x="252" y="204"/>
                </a:lnTo>
                <a:lnTo>
                  <a:pt x="288" y="192"/>
                </a:lnTo>
                <a:lnTo>
                  <a:pt x="324" y="192"/>
                </a:lnTo>
                <a:lnTo>
                  <a:pt x="360" y="180"/>
                </a:lnTo>
                <a:lnTo>
                  <a:pt x="396" y="180"/>
                </a:lnTo>
                <a:lnTo>
                  <a:pt x="432" y="168"/>
                </a:lnTo>
                <a:lnTo>
                  <a:pt x="468" y="156"/>
                </a:lnTo>
                <a:lnTo>
                  <a:pt x="504" y="144"/>
                </a:lnTo>
                <a:lnTo>
                  <a:pt x="540" y="14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1066680"/>
            <a:ext cx="2554200" cy="268560"/>
          </a:xfrm>
          <a:custGeom>
            <a:avLst/>
            <a:gdLst/>
            <a:ahLst/>
            <a:rect l="l" t="t" r="r" b="b"/>
            <a:pathLst>
              <a:path w="1609" h="169">
                <a:moveTo>
                  <a:pt x="480" y="132"/>
                </a:moveTo>
                <a:lnTo>
                  <a:pt x="516" y="156"/>
                </a:lnTo>
                <a:lnTo>
                  <a:pt x="552" y="144"/>
                </a:lnTo>
                <a:lnTo>
                  <a:pt x="588" y="132"/>
                </a:lnTo>
                <a:lnTo>
                  <a:pt x="624" y="120"/>
                </a:lnTo>
                <a:lnTo>
                  <a:pt x="660" y="132"/>
                </a:lnTo>
                <a:lnTo>
                  <a:pt x="696" y="132"/>
                </a:lnTo>
                <a:lnTo>
                  <a:pt x="732" y="156"/>
                </a:lnTo>
                <a:lnTo>
                  <a:pt x="768" y="156"/>
                </a:lnTo>
                <a:lnTo>
                  <a:pt x="804" y="132"/>
                </a:lnTo>
                <a:lnTo>
                  <a:pt x="840" y="120"/>
                </a:lnTo>
                <a:lnTo>
                  <a:pt x="876" y="132"/>
                </a:lnTo>
                <a:lnTo>
                  <a:pt x="912" y="132"/>
                </a:lnTo>
                <a:lnTo>
                  <a:pt x="948" y="144"/>
                </a:lnTo>
                <a:lnTo>
                  <a:pt x="984" y="144"/>
                </a:lnTo>
                <a:lnTo>
                  <a:pt x="1020" y="144"/>
                </a:lnTo>
                <a:lnTo>
                  <a:pt x="1056" y="120"/>
                </a:lnTo>
                <a:lnTo>
                  <a:pt x="1104" y="132"/>
                </a:lnTo>
                <a:lnTo>
                  <a:pt x="1140" y="132"/>
                </a:lnTo>
                <a:lnTo>
                  <a:pt x="1176" y="144"/>
                </a:lnTo>
                <a:lnTo>
                  <a:pt x="1212" y="144"/>
                </a:lnTo>
                <a:lnTo>
                  <a:pt x="1248" y="144"/>
                </a:lnTo>
                <a:lnTo>
                  <a:pt x="1284" y="144"/>
                </a:lnTo>
                <a:lnTo>
                  <a:pt x="1320" y="156"/>
                </a:lnTo>
                <a:lnTo>
                  <a:pt x="1356" y="144"/>
                </a:lnTo>
                <a:lnTo>
                  <a:pt x="1392" y="120"/>
                </a:lnTo>
                <a:lnTo>
                  <a:pt x="1428" y="120"/>
                </a:lnTo>
                <a:lnTo>
                  <a:pt x="1464" y="108"/>
                </a:lnTo>
                <a:lnTo>
                  <a:pt x="1500" y="120"/>
                </a:lnTo>
                <a:lnTo>
                  <a:pt x="1536" y="120"/>
                </a:lnTo>
                <a:lnTo>
                  <a:pt x="1572" y="120"/>
                </a:lnTo>
                <a:lnTo>
                  <a:pt x="1608" y="96"/>
                </a:lnTo>
                <a:lnTo>
                  <a:pt x="1572" y="72"/>
                </a:lnTo>
                <a:lnTo>
                  <a:pt x="1536" y="72"/>
                </a:lnTo>
                <a:lnTo>
                  <a:pt x="1500" y="72"/>
                </a:lnTo>
                <a:lnTo>
                  <a:pt x="1464" y="48"/>
                </a:lnTo>
                <a:lnTo>
                  <a:pt x="1428" y="48"/>
                </a:lnTo>
                <a:lnTo>
                  <a:pt x="1392" y="36"/>
                </a:lnTo>
                <a:lnTo>
                  <a:pt x="1356" y="48"/>
                </a:lnTo>
                <a:lnTo>
                  <a:pt x="1320" y="48"/>
                </a:lnTo>
                <a:lnTo>
                  <a:pt x="1284" y="60"/>
                </a:lnTo>
                <a:lnTo>
                  <a:pt x="1248" y="48"/>
                </a:lnTo>
                <a:lnTo>
                  <a:pt x="1212" y="24"/>
                </a:lnTo>
                <a:lnTo>
                  <a:pt x="1176" y="24"/>
                </a:lnTo>
                <a:lnTo>
                  <a:pt x="1140" y="12"/>
                </a:lnTo>
                <a:lnTo>
                  <a:pt x="1104" y="0"/>
                </a:lnTo>
                <a:lnTo>
                  <a:pt x="1068" y="0"/>
                </a:lnTo>
                <a:lnTo>
                  <a:pt x="1080" y="36"/>
                </a:lnTo>
                <a:lnTo>
                  <a:pt x="1092" y="72"/>
                </a:lnTo>
                <a:lnTo>
                  <a:pt x="1056" y="84"/>
                </a:lnTo>
                <a:lnTo>
                  <a:pt x="1020" y="84"/>
                </a:lnTo>
                <a:lnTo>
                  <a:pt x="984" y="72"/>
                </a:lnTo>
                <a:lnTo>
                  <a:pt x="948" y="72"/>
                </a:lnTo>
                <a:lnTo>
                  <a:pt x="912" y="72"/>
                </a:lnTo>
                <a:lnTo>
                  <a:pt x="876" y="60"/>
                </a:lnTo>
                <a:lnTo>
                  <a:pt x="840" y="48"/>
                </a:lnTo>
                <a:lnTo>
                  <a:pt x="804" y="24"/>
                </a:lnTo>
                <a:lnTo>
                  <a:pt x="768" y="24"/>
                </a:lnTo>
                <a:lnTo>
                  <a:pt x="732" y="24"/>
                </a:lnTo>
                <a:lnTo>
                  <a:pt x="696" y="24"/>
                </a:lnTo>
                <a:lnTo>
                  <a:pt x="660" y="36"/>
                </a:lnTo>
                <a:lnTo>
                  <a:pt x="624" y="48"/>
                </a:lnTo>
                <a:lnTo>
                  <a:pt x="588" y="36"/>
                </a:lnTo>
                <a:lnTo>
                  <a:pt x="552" y="36"/>
                </a:lnTo>
                <a:lnTo>
                  <a:pt x="516" y="36"/>
                </a:lnTo>
                <a:lnTo>
                  <a:pt x="468" y="36"/>
                </a:lnTo>
                <a:lnTo>
                  <a:pt x="432" y="36"/>
                </a:lnTo>
                <a:lnTo>
                  <a:pt x="396" y="48"/>
                </a:lnTo>
                <a:lnTo>
                  <a:pt x="360" y="60"/>
                </a:lnTo>
                <a:lnTo>
                  <a:pt x="324" y="72"/>
                </a:lnTo>
                <a:lnTo>
                  <a:pt x="288" y="84"/>
                </a:lnTo>
                <a:lnTo>
                  <a:pt x="252" y="84"/>
                </a:lnTo>
                <a:lnTo>
                  <a:pt x="216" y="84"/>
                </a:lnTo>
                <a:lnTo>
                  <a:pt x="180" y="84"/>
                </a:lnTo>
                <a:lnTo>
                  <a:pt x="144" y="84"/>
                </a:lnTo>
                <a:lnTo>
                  <a:pt x="108" y="96"/>
                </a:lnTo>
                <a:lnTo>
                  <a:pt x="72" y="108"/>
                </a:lnTo>
                <a:lnTo>
                  <a:pt x="36" y="108"/>
                </a:lnTo>
                <a:lnTo>
                  <a:pt x="0" y="120"/>
                </a:lnTo>
                <a:lnTo>
                  <a:pt x="36" y="120"/>
                </a:lnTo>
                <a:lnTo>
                  <a:pt x="72" y="120"/>
                </a:lnTo>
                <a:lnTo>
                  <a:pt x="108" y="132"/>
                </a:lnTo>
                <a:lnTo>
                  <a:pt x="144" y="156"/>
                </a:lnTo>
                <a:lnTo>
                  <a:pt x="180" y="168"/>
                </a:lnTo>
                <a:lnTo>
                  <a:pt x="216" y="156"/>
                </a:lnTo>
                <a:lnTo>
                  <a:pt x="252" y="156"/>
                </a:lnTo>
                <a:lnTo>
                  <a:pt x="288" y="156"/>
                </a:lnTo>
                <a:lnTo>
                  <a:pt x="324" y="168"/>
                </a:lnTo>
                <a:lnTo>
                  <a:pt x="360" y="168"/>
                </a:lnTo>
                <a:lnTo>
                  <a:pt x="396" y="168"/>
                </a:lnTo>
                <a:lnTo>
                  <a:pt x="432" y="168"/>
                </a:lnTo>
                <a:lnTo>
                  <a:pt x="468" y="156"/>
                </a:lnTo>
                <a:lnTo>
                  <a:pt x="480" y="13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80720" y="3490920"/>
            <a:ext cx="28162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p Dow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ivery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t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533520"/>
            <a:ext cx="457200" cy="457200"/>
          </a:xfrm>
          <a:prstGeom prst="ellipse">
            <a:avLst/>
          </a:prstGeom>
          <a:gradFill rotWithShape="0">
            <a:gsLst>
              <a:gs pos="0">
                <a:srgbClr val="e4e4e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00" y="6093000"/>
            <a:ext cx="8950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ceberg of Poor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320" y="1981080"/>
            <a:ext cx="169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2600" y="762120"/>
            <a:ext cx="2020680" cy="496800"/>
          </a:xfrm>
          <a:custGeom>
            <a:avLst/>
            <a:gdLst/>
            <a:ahLst/>
            <a:rect l="l" t="t" r="r" b="b"/>
            <a:pathLst>
              <a:path w="1273" h="313">
                <a:moveTo>
                  <a:pt x="684" y="24"/>
                </a:moveTo>
                <a:lnTo>
                  <a:pt x="720" y="12"/>
                </a:lnTo>
                <a:lnTo>
                  <a:pt x="756" y="24"/>
                </a:lnTo>
                <a:lnTo>
                  <a:pt x="792" y="24"/>
                </a:lnTo>
                <a:lnTo>
                  <a:pt x="828" y="0"/>
                </a:lnTo>
                <a:lnTo>
                  <a:pt x="864" y="12"/>
                </a:lnTo>
                <a:lnTo>
                  <a:pt x="900" y="24"/>
                </a:lnTo>
                <a:lnTo>
                  <a:pt x="936" y="36"/>
                </a:lnTo>
                <a:lnTo>
                  <a:pt x="972" y="24"/>
                </a:lnTo>
                <a:lnTo>
                  <a:pt x="1008" y="24"/>
                </a:lnTo>
                <a:lnTo>
                  <a:pt x="1044" y="24"/>
                </a:lnTo>
                <a:lnTo>
                  <a:pt x="1080" y="24"/>
                </a:lnTo>
                <a:lnTo>
                  <a:pt x="1104" y="60"/>
                </a:lnTo>
                <a:lnTo>
                  <a:pt x="1140" y="84"/>
                </a:lnTo>
                <a:lnTo>
                  <a:pt x="1176" y="108"/>
                </a:lnTo>
                <a:lnTo>
                  <a:pt x="1212" y="120"/>
                </a:lnTo>
                <a:lnTo>
                  <a:pt x="1248" y="132"/>
                </a:lnTo>
                <a:lnTo>
                  <a:pt x="1272" y="168"/>
                </a:lnTo>
                <a:lnTo>
                  <a:pt x="1260" y="204"/>
                </a:lnTo>
                <a:lnTo>
                  <a:pt x="1224" y="228"/>
                </a:lnTo>
                <a:lnTo>
                  <a:pt x="1212" y="264"/>
                </a:lnTo>
                <a:lnTo>
                  <a:pt x="1176" y="276"/>
                </a:lnTo>
                <a:lnTo>
                  <a:pt x="1140" y="300"/>
                </a:lnTo>
                <a:lnTo>
                  <a:pt x="1104" y="288"/>
                </a:lnTo>
                <a:lnTo>
                  <a:pt x="1068" y="288"/>
                </a:lnTo>
                <a:lnTo>
                  <a:pt x="1032" y="288"/>
                </a:lnTo>
                <a:lnTo>
                  <a:pt x="996" y="300"/>
                </a:lnTo>
                <a:lnTo>
                  <a:pt x="960" y="312"/>
                </a:lnTo>
                <a:lnTo>
                  <a:pt x="936" y="276"/>
                </a:lnTo>
                <a:lnTo>
                  <a:pt x="900" y="252"/>
                </a:lnTo>
                <a:lnTo>
                  <a:pt x="864" y="252"/>
                </a:lnTo>
                <a:lnTo>
                  <a:pt x="828" y="264"/>
                </a:lnTo>
                <a:lnTo>
                  <a:pt x="792" y="276"/>
                </a:lnTo>
                <a:lnTo>
                  <a:pt x="756" y="288"/>
                </a:lnTo>
                <a:lnTo>
                  <a:pt x="720" y="300"/>
                </a:lnTo>
                <a:lnTo>
                  <a:pt x="684" y="312"/>
                </a:lnTo>
                <a:lnTo>
                  <a:pt x="648" y="300"/>
                </a:lnTo>
                <a:lnTo>
                  <a:pt x="612" y="288"/>
                </a:lnTo>
                <a:lnTo>
                  <a:pt x="576" y="252"/>
                </a:lnTo>
                <a:lnTo>
                  <a:pt x="540" y="240"/>
                </a:lnTo>
                <a:lnTo>
                  <a:pt x="504" y="228"/>
                </a:lnTo>
                <a:lnTo>
                  <a:pt x="468" y="228"/>
                </a:lnTo>
                <a:lnTo>
                  <a:pt x="432" y="228"/>
                </a:lnTo>
                <a:lnTo>
                  <a:pt x="396" y="240"/>
                </a:lnTo>
                <a:lnTo>
                  <a:pt x="360" y="240"/>
                </a:lnTo>
                <a:lnTo>
                  <a:pt x="324" y="240"/>
                </a:lnTo>
                <a:lnTo>
                  <a:pt x="288" y="240"/>
                </a:lnTo>
                <a:lnTo>
                  <a:pt x="252" y="228"/>
                </a:lnTo>
                <a:lnTo>
                  <a:pt x="216" y="216"/>
                </a:lnTo>
                <a:lnTo>
                  <a:pt x="180" y="216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04"/>
                </a:lnTo>
                <a:lnTo>
                  <a:pt x="36" y="168"/>
                </a:lnTo>
                <a:lnTo>
                  <a:pt x="72" y="168"/>
                </a:lnTo>
                <a:lnTo>
                  <a:pt x="108" y="168"/>
                </a:lnTo>
                <a:lnTo>
                  <a:pt x="144" y="168"/>
                </a:lnTo>
                <a:lnTo>
                  <a:pt x="180" y="144"/>
                </a:lnTo>
                <a:lnTo>
                  <a:pt x="216" y="120"/>
                </a:lnTo>
                <a:lnTo>
                  <a:pt x="252" y="96"/>
                </a:lnTo>
                <a:lnTo>
                  <a:pt x="288" y="96"/>
                </a:lnTo>
                <a:lnTo>
                  <a:pt x="324" y="108"/>
                </a:lnTo>
                <a:lnTo>
                  <a:pt x="360" y="120"/>
                </a:lnTo>
                <a:lnTo>
                  <a:pt x="396" y="108"/>
                </a:lnTo>
                <a:lnTo>
                  <a:pt x="432" y="108"/>
                </a:lnTo>
                <a:lnTo>
                  <a:pt x="468" y="96"/>
                </a:lnTo>
                <a:lnTo>
                  <a:pt x="504" y="72"/>
                </a:lnTo>
                <a:lnTo>
                  <a:pt x="540" y="60"/>
                </a:lnTo>
                <a:lnTo>
                  <a:pt x="576" y="72"/>
                </a:lnTo>
                <a:lnTo>
                  <a:pt x="612" y="84"/>
                </a:lnTo>
                <a:lnTo>
                  <a:pt x="648" y="84"/>
                </a:lnTo>
                <a:lnTo>
                  <a:pt x="684" y="72"/>
                </a:lnTo>
                <a:lnTo>
                  <a:pt x="720" y="60"/>
                </a:lnTo>
                <a:lnTo>
                  <a:pt x="756" y="48"/>
                </a:lnTo>
                <a:lnTo>
                  <a:pt x="792" y="36"/>
                </a:lnTo>
                <a:lnTo>
                  <a:pt x="828" y="36"/>
                </a:lnTo>
                <a:lnTo>
                  <a:pt x="864" y="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72320" y="1209600"/>
            <a:ext cx="2292120" cy="300240"/>
          </a:xfrm>
          <a:custGeom>
            <a:avLst/>
            <a:gdLst/>
            <a:ahLst/>
            <a:rect l="l" t="t" r="r" b="b"/>
            <a:pathLst>
              <a:path w="1444" h="189">
                <a:moveTo>
                  <a:pt x="68" y="110"/>
                </a:moveTo>
                <a:lnTo>
                  <a:pt x="101" y="83"/>
                </a:lnTo>
                <a:lnTo>
                  <a:pt x="137" y="79"/>
                </a:lnTo>
                <a:lnTo>
                  <a:pt x="173" y="75"/>
                </a:lnTo>
                <a:lnTo>
                  <a:pt x="207" y="59"/>
                </a:lnTo>
                <a:lnTo>
                  <a:pt x="242" y="43"/>
                </a:lnTo>
                <a:lnTo>
                  <a:pt x="277" y="27"/>
                </a:lnTo>
                <a:lnTo>
                  <a:pt x="311" y="11"/>
                </a:lnTo>
                <a:lnTo>
                  <a:pt x="347" y="8"/>
                </a:lnTo>
                <a:lnTo>
                  <a:pt x="383" y="4"/>
                </a:lnTo>
                <a:lnTo>
                  <a:pt x="418" y="0"/>
                </a:lnTo>
                <a:lnTo>
                  <a:pt x="457" y="20"/>
                </a:lnTo>
                <a:lnTo>
                  <a:pt x="494" y="29"/>
                </a:lnTo>
                <a:lnTo>
                  <a:pt x="532" y="48"/>
                </a:lnTo>
                <a:lnTo>
                  <a:pt x="568" y="44"/>
                </a:lnTo>
                <a:lnTo>
                  <a:pt x="605" y="53"/>
                </a:lnTo>
                <a:lnTo>
                  <a:pt x="641" y="49"/>
                </a:lnTo>
                <a:lnTo>
                  <a:pt x="686" y="32"/>
                </a:lnTo>
                <a:lnTo>
                  <a:pt x="723" y="28"/>
                </a:lnTo>
                <a:lnTo>
                  <a:pt x="759" y="24"/>
                </a:lnTo>
                <a:lnTo>
                  <a:pt x="794" y="20"/>
                </a:lnTo>
                <a:lnTo>
                  <a:pt x="833" y="29"/>
                </a:lnTo>
                <a:lnTo>
                  <a:pt x="869" y="49"/>
                </a:lnTo>
                <a:lnTo>
                  <a:pt x="906" y="57"/>
                </a:lnTo>
                <a:lnTo>
                  <a:pt x="945" y="65"/>
                </a:lnTo>
                <a:lnTo>
                  <a:pt x="981" y="74"/>
                </a:lnTo>
                <a:lnTo>
                  <a:pt x="1016" y="58"/>
                </a:lnTo>
                <a:lnTo>
                  <a:pt x="1052" y="54"/>
                </a:lnTo>
                <a:lnTo>
                  <a:pt x="1089" y="62"/>
                </a:lnTo>
                <a:lnTo>
                  <a:pt x="1137" y="70"/>
                </a:lnTo>
                <a:lnTo>
                  <a:pt x="1175" y="78"/>
                </a:lnTo>
                <a:lnTo>
                  <a:pt x="1211" y="74"/>
                </a:lnTo>
                <a:lnTo>
                  <a:pt x="1247" y="81"/>
                </a:lnTo>
                <a:lnTo>
                  <a:pt x="1285" y="90"/>
                </a:lnTo>
                <a:lnTo>
                  <a:pt x="1321" y="99"/>
                </a:lnTo>
                <a:lnTo>
                  <a:pt x="1357" y="95"/>
                </a:lnTo>
                <a:lnTo>
                  <a:pt x="1403" y="77"/>
                </a:lnTo>
                <a:lnTo>
                  <a:pt x="1439" y="74"/>
                </a:lnTo>
                <a:lnTo>
                  <a:pt x="1443" y="110"/>
                </a:lnTo>
                <a:lnTo>
                  <a:pt x="1408" y="125"/>
                </a:lnTo>
                <a:lnTo>
                  <a:pt x="1363" y="143"/>
                </a:lnTo>
                <a:lnTo>
                  <a:pt x="1328" y="159"/>
                </a:lnTo>
                <a:lnTo>
                  <a:pt x="1294" y="174"/>
                </a:lnTo>
                <a:lnTo>
                  <a:pt x="1257" y="178"/>
                </a:lnTo>
                <a:lnTo>
                  <a:pt x="1222" y="182"/>
                </a:lnTo>
                <a:lnTo>
                  <a:pt x="1185" y="174"/>
                </a:lnTo>
                <a:lnTo>
                  <a:pt x="1148" y="177"/>
                </a:lnTo>
                <a:lnTo>
                  <a:pt x="1113" y="169"/>
                </a:lnTo>
                <a:lnTo>
                  <a:pt x="1077" y="173"/>
                </a:lnTo>
                <a:lnTo>
                  <a:pt x="1041" y="176"/>
                </a:lnTo>
                <a:lnTo>
                  <a:pt x="1005" y="180"/>
                </a:lnTo>
                <a:lnTo>
                  <a:pt x="969" y="184"/>
                </a:lnTo>
                <a:lnTo>
                  <a:pt x="933" y="188"/>
                </a:lnTo>
                <a:lnTo>
                  <a:pt x="895" y="180"/>
                </a:lnTo>
                <a:lnTo>
                  <a:pt x="860" y="183"/>
                </a:lnTo>
                <a:lnTo>
                  <a:pt x="823" y="175"/>
                </a:lnTo>
                <a:lnTo>
                  <a:pt x="787" y="179"/>
                </a:lnTo>
                <a:lnTo>
                  <a:pt x="752" y="182"/>
                </a:lnTo>
                <a:lnTo>
                  <a:pt x="714" y="175"/>
                </a:lnTo>
                <a:lnTo>
                  <a:pt x="679" y="179"/>
                </a:lnTo>
                <a:lnTo>
                  <a:pt x="698" y="140"/>
                </a:lnTo>
                <a:lnTo>
                  <a:pt x="650" y="145"/>
                </a:lnTo>
                <a:lnTo>
                  <a:pt x="604" y="162"/>
                </a:lnTo>
                <a:lnTo>
                  <a:pt x="558" y="179"/>
                </a:lnTo>
                <a:lnTo>
                  <a:pt x="522" y="183"/>
                </a:lnTo>
                <a:lnTo>
                  <a:pt x="507" y="149"/>
                </a:lnTo>
                <a:lnTo>
                  <a:pt x="469" y="140"/>
                </a:lnTo>
                <a:lnTo>
                  <a:pt x="433" y="144"/>
                </a:lnTo>
                <a:lnTo>
                  <a:pt x="397" y="148"/>
                </a:lnTo>
                <a:lnTo>
                  <a:pt x="362" y="152"/>
                </a:lnTo>
                <a:lnTo>
                  <a:pt x="325" y="156"/>
                </a:lnTo>
                <a:lnTo>
                  <a:pt x="290" y="147"/>
                </a:lnTo>
                <a:lnTo>
                  <a:pt x="254" y="151"/>
                </a:lnTo>
                <a:lnTo>
                  <a:pt x="217" y="154"/>
                </a:lnTo>
                <a:lnTo>
                  <a:pt x="182" y="158"/>
                </a:lnTo>
                <a:lnTo>
                  <a:pt x="147" y="175"/>
                </a:lnTo>
                <a:lnTo>
                  <a:pt x="110" y="178"/>
                </a:lnTo>
                <a:lnTo>
                  <a:pt x="74" y="170"/>
                </a:lnTo>
                <a:lnTo>
                  <a:pt x="38" y="162"/>
                </a:lnTo>
                <a:lnTo>
                  <a:pt x="0" y="153"/>
                </a:lnTo>
                <a:lnTo>
                  <a:pt x="34" y="126"/>
                </a:lnTo>
                <a:lnTo>
                  <a:pt x="68" y="110"/>
                </a:lnTo>
                <a:lnTo>
                  <a:pt x="102" y="94"/>
                </a:lnTo>
                <a:lnTo>
                  <a:pt x="68" y="1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6640" y="0"/>
            <a:ext cx="3165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971800"/>
            <a:ext cx="9069480" cy="382680"/>
          </a:xfrm>
          <a:custGeom>
            <a:avLst/>
            <a:gdLst/>
            <a:ahLst/>
            <a:rect l="l" t="t" r="r" b="b"/>
            <a:pathLst>
              <a:path w="5713" h="241">
                <a:moveTo>
                  <a:pt x="0" y="240"/>
                </a:moveTo>
                <a:lnTo>
                  <a:pt x="5712" y="240"/>
                </a:lnTo>
                <a:lnTo>
                  <a:pt x="5612" y="80"/>
                </a:lnTo>
                <a:lnTo>
                  <a:pt x="5361" y="160"/>
                </a:lnTo>
                <a:lnTo>
                  <a:pt x="5211" y="80"/>
                </a:lnTo>
                <a:lnTo>
                  <a:pt x="5061" y="160"/>
                </a:lnTo>
                <a:lnTo>
                  <a:pt x="4860" y="80"/>
                </a:lnTo>
                <a:lnTo>
                  <a:pt x="4710" y="160"/>
                </a:lnTo>
                <a:lnTo>
                  <a:pt x="4610" y="0"/>
                </a:lnTo>
                <a:lnTo>
                  <a:pt x="4409" y="160"/>
                </a:lnTo>
                <a:lnTo>
                  <a:pt x="4259" y="80"/>
                </a:lnTo>
                <a:lnTo>
                  <a:pt x="4109" y="160"/>
                </a:lnTo>
                <a:lnTo>
                  <a:pt x="3958" y="80"/>
                </a:lnTo>
                <a:lnTo>
                  <a:pt x="3708" y="160"/>
                </a:lnTo>
                <a:lnTo>
                  <a:pt x="3557" y="0"/>
                </a:lnTo>
                <a:lnTo>
                  <a:pt x="3307" y="160"/>
                </a:lnTo>
                <a:lnTo>
                  <a:pt x="3157" y="80"/>
                </a:lnTo>
                <a:lnTo>
                  <a:pt x="2806" y="160"/>
                </a:lnTo>
                <a:lnTo>
                  <a:pt x="2505" y="80"/>
                </a:lnTo>
                <a:lnTo>
                  <a:pt x="2255" y="160"/>
                </a:lnTo>
                <a:lnTo>
                  <a:pt x="2054" y="80"/>
                </a:lnTo>
                <a:lnTo>
                  <a:pt x="1904" y="160"/>
                </a:lnTo>
                <a:lnTo>
                  <a:pt x="1754" y="80"/>
                </a:lnTo>
                <a:lnTo>
                  <a:pt x="1603" y="80"/>
                </a:lnTo>
                <a:lnTo>
                  <a:pt x="1403" y="160"/>
                </a:lnTo>
                <a:lnTo>
                  <a:pt x="1203" y="160"/>
                </a:lnTo>
                <a:lnTo>
                  <a:pt x="802" y="80"/>
                </a:lnTo>
                <a:lnTo>
                  <a:pt x="802" y="160"/>
                </a:lnTo>
                <a:lnTo>
                  <a:pt x="601" y="80"/>
                </a:lnTo>
                <a:lnTo>
                  <a:pt x="451" y="160"/>
                </a:lnTo>
                <a:lnTo>
                  <a:pt x="351" y="80"/>
                </a:lnTo>
                <a:lnTo>
                  <a:pt x="150" y="160"/>
                </a:lnTo>
                <a:lnTo>
                  <a:pt x="0" y="240"/>
                </a:lnTo>
              </a:path>
            </a:pathLst>
          </a:custGeom>
          <a:gradFill rotWithShape="0">
            <a:gsLst>
              <a:gs pos="0">
                <a:srgbClr val="7ec9c2"/>
              </a:gs>
              <a:gs pos="100000">
                <a:srgbClr val="0096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89240" y="545292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PPRAI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084320" y="4987800"/>
            <a:ext cx="758880" cy="444600"/>
            <a:chOff x="1084320" y="4987800"/>
            <a:chExt cx="758880" cy="444600"/>
          </a:xfrm>
        </p:grpSpPr>
        <p:sp>
          <p:nvSpPr>
            <p:cNvPr id="68" name=""/>
            <p:cNvSpPr/>
            <p:nvPr/>
          </p:nvSpPr>
          <p:spPr>
            <a:xfrm>
              <a:off x="1087560" y="5057640"/>
              <a:ext cx="745920" cy="374760"/>
            </a:xfrm>
            <a:prstGeom prst="ellipse">
              <a:avLst/>
            </a:prstGeom>
            <a:solidFill>
              <a:srgbClr val="bf7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87560" y="4987800"/>
              <a:ext cx="744480" cy="371520"/>
            </a:xfrm>
            <a:prstGeom prst="ellipse">
              <a:avLst/>
            </a:prstGeom>
            <a:solidFill>
              <a:srgbClr val="ff9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4320" y="52023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14360" y="536904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5200" y="538164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06680" y="537048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57520" y="531180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43200" y="518940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85840" y="532296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3600" y="5046840"/>
              <a:ext cx="401760" cy="249120"/>
            </a:xfrm>
            <a:custGeom>
              <a:avLst/>
              <a:gdLst/>
              <a:ahLst/>
              <a:rect l="l" t="t" r="r" b="b"/>
              <a:pathLst>
                <a:path w="253" h="157">
                  <a:moveTo>
                    <a:pt x="139" y="17"/>
                  </a:moveTo>
                  <a:lnTo>
                    <a:pt x="79" y="9"/>
                  </a:lnTo>
                  <a:lnTo>
                    <a:pt x="30" y="23"/>
                  </a:lnTo>
                  <a:lnTo>
                    <a:pt x="3" y="49"/>
                  </a:lnTo>
                  <a:lnTo>
                    <a:pt x="0" y="81"/>
                  </a:lnTo>
                  <a:lnTo>
                    <a:pt x="12" y="109"/>
                  </a:lnTo>
                  <a:lnTo>
                    <a:pt x="29" y="128"/>
                  </a:lnTo>
                  <a:lnTo>
                    <a:pt x="38" y="126"/>
                  </a:lnTo>
                  <a:lnTo>
                    <a:pt x="73" y="153"/>
                  </a:lnTo>
                  <a:lnTo>
                    <a:pt x="80" y="131"/>
                  </a:lnTo>
                  <a:lnTo>
                    <a:pt x="101" y="145"/>
                  </a:lnTo>
                  <a:lnTo>
                    <a:pt x="130" y="137"/>
                  </a:lnTo>
                  <a:lnTo>
                    <a:pt x="134" y="104"/>
                  </a:lnTo>
                  <a:lnTo>
                    <a:pt x="158" y="115"/>
                  </a:lnTo>
                  <a:lnTo>
                    <a:pt x="164" y="137"/>
                  </a:lnTo>
                  <a:lnTo>
                    <a:pt x="184" y="156"/>
                  </a:lnTo>
                  <a:lnTo>
                    <a:pt x="223" y="139"/>
                  </a:lnTo>
                  <a:lnTo>
                    <a:pt x="250" y="112"/>
                  </a:lnTo>
                  <a:lnTo>
                    <a:pt x="252" y="73"/>
                  </a:lnTo>
                  <a:lnTo>
                    <a:pt x="228" y="47"/>
                  </a:lnTo>
                  <a:lnTo>
                    <a:pt x="159" y="48"/>
                  </a:lnTo>
                  <a:lnTo>
                    <a:pt x="151" y="23"/>
                  </a:lnTo>
                  <a:lnTo>
                    <a:pt x="174" y="48"/>
                  </a:lnTo>
                  <a:lnTo>
                    <a:pt x="204" y="24"/>
                  </a:lnTo>
                  <a:lnTo>
                    <a:pt x="216" y="17"/>
                  </a:lnTo>
                  <a:lnTo>
                    <a:pt x="198" y="0"/>
                  </a:lnTo>
                  <a:lnTo>
                    <a:pt x="164" y="7"/>
                  </a:lnTo>
                  <a:lnTo>
                    <a:pt x="139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55600" y="5014800"/>
              <a:ext cx="622440" cy="311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30560" y="4143240"/>
            <a:ext cx="982800" cy="1289160"/>
            <a:chOff x="4030560" y="4143240"/>
            <a:chExt cx="982800" cy="1289160"/>
          </a:xfrm>
        </p:grpSpPr>
        <p:grpSp>
          <p:nvGrpSpPr>
            <p:cNvPr id="80" name=""/>
            <p:cNvGrpSpPr/>
            <p:nvPr/>
          </p:nvGrpSpPr>
          <p:grpSpPr>
            <a:xfrm>
              <a:off x="4030560" y="4192560"/>
              <a:ext cx="930240" cy="1239840"/>
              <a:chOff x="4030560" y="4192560"/>
              <a:chExt cx="930240" cy="123984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4135320" y="5059440"/>
                <a:ext cx="803520" cy="372960"/>
                <a:chOff x="4135320" y="5059440"/>
                <a:chExt cx="803520" cy="3729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140360" y="5116680"/>
                  <a:ext cx="788760" cy="31572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138560" y="5059440"/>
                  <a:ext cx="7891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135320" y="5238720"/>
                  <a:ext cx="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381560" y="538308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540320" y="53942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691160" y="538488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8120" y="53323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938840" y="523080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241880" y="534348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324320" y="5108400"/>
                  <a:ext cx="425520" cy="212760"/>
                </a:xfrm>
                <a:custGeom>
                  <a:avLst/>
                  <a:gdLst/>
                  <a:ahLst/>
                  <a:rect l="l" t="t" r="r" b="b"/>
                  <a:pathLst>
                    <a:path w="268" h="134">
                      <a:moveTo>
                        <a:pt x="148" y="15"/>
                      </a:moveTo>
                      <a:lnTo>
                        <a:pt x="83" y="8"/>
                      </a:lnTo>
                      <a:lnTo>
                        <a:pt x="31" y="19"/>
                      </a:lnTo>
                      <a:lnTo>
                        <a:pt x="4" y="41"/>
                      </a:lnTo>
                      <a:lnTo>
                        <a:pt x="0" y="68"/>
                      </a:lnTo>
                      <a:lnTo>
                        <a:pt x="13" y="92"/>
                      </a:lnTo>
                      <a:lnTo>
                        <a:pt x="30" y="108"/>
                      </a:lnTo>
                      <a:lnTo>
                        <a:pt x="40" y="106"/>
                      </a:lnTo>
                      <a:lnTo>
                        <a:pt x="78" y="129"/>
                      </a:lnTo>
                      <a:lnTo>
                        <a:pt x="84" y="112"/>
                      </a:lnTo>
                      <a:lnTo>
                        <a:pt x="107" y="122"/>
                      </a:lnTo>
                      <a:lnTo>
                        <a:pt x="138" y="115"/>
                      </a:lnTo>
                      <a:lnTo>
                        <a:pt x="142" y="89"/>
                      </a:lnTo>
                      <a:lnTo>
                        <a:pt x="167" y="97"/>
                      </a:lnTo>
                      <a:lnTo>
                        <a:pt x="174" y="115"/>
                      </a:lnTo>
                      <a:lnTo>
                        <a:pt x="194" y="133"/>
                      </a:lnTo>
                      <a:lnTo>
                        <a:pt x="237" y="117"/>
                      </a:lnTo>
                      <a:lnTo>
                        <a:pt x="264" y="94"/>
                      </a:lnTo>
                      <a:lnTo>
                        <a:pt x="267" y="61"/>
                      </a:lnTo>
                      <a:lnTo>
                        <a:pt x="242" y="39"/>
                      </a:lnTo>
                      <a:lnTo>
                        <a:pt x="169" y="40"/>
                      </a:lnTo>
                      <a:lnTo>
                        <a:pt x="159" y="19"/>
                      </a:lnTo>
                      <a:lnTo>
                        <a:pt x="184" y="40"/>
                      </a:lnTo>
                      <a:lnTo>
                        <a:pt x="216" y="20"/>
                      </a:lnTo>
                      <a:lnTo>
                        <a:pt x="229" y="15"/>
                      </a:lnTo>
                      <a:lnTo>
                        <a:pt x="210" y="0"/>
                      </a:lnTo>
                      <a:lnTo>
                        <a:pt x="174" y="6"/>
                      </a:lnTo>
                      <a:lnTo>
                        <a:pt x="148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210200" y="5083200"/>
                  <a:ext cx="66168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030560" y="4944960"/>
                <a:ext cx="801720" cy="371520"/>
                <a:chOff x="4030560" y="4944960"/>
                <a:chExt cx="801720" cy="3715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033800" y="5002200"/>
                  <a:ext cx="78912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032360" y="4944960"/>
                  <a:ext cx="788760" cy="31284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030560" y="5124600"/>
                  <a:ext cx="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276800" y="52671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433760" y="527832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583160" y="52689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741920" y="521820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32280" y="511488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35320" y="52293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8120" y="4995720"/>
                  <a:ext cx="425160" cy="209520"/>
                </a:xfrm>
                <a:custGeom>
                  <a:avLst/>
                  <a:gdLst/>
                  <a:ahLst/>
                  <a:rect l="l" t="t" r="r" b="b"/>
                  <a:pathLst>
                    <a:path w="268" h="132">
                      <a:moveTo>
                        <a:pt x="147" y="13"/>
                      </a:moveTo>
                      <a:lnTo>
                        <a:pt x="83" y="7"/>
                      </a:lnTo>
                      <a:lnTo>
                        <a:pt x="32" y="18"/>
                      </a:lnTo>
                      <a:lnTo>
                        <a:pt x="4" y="40"/>
                      </a:lnTo>
                      <a:lnTo>
                        <a:pt x="0" y="67"/>
                      </a:lnTo>
                      <a:lnTo>
                        <a:pt x="14" y="91"/>
                      </a:lnTo>
                      <a:lnTo>
                        <a:pt x="31" y="108"/>
                      </a:lnTo>
                      <a:lnTo>
                        <a:pt x="41" y="105"/>
                      </a:lnTo>
                      <a:lnTo>
                        <a:pt x="78" y="129"/>
                      </a:lnTo>
                      <a:lnTo>
                        <a:pt x="85" y="110"/>
                      </a:lnTo>
                      <a:lnTo>
                        <a:pt x="107" y="121"/>
                      </a:lnTo>
                      <a:lnTo>
                        <a:pt x="137" y="114"/>
                      </a:lnTo>
                      <a:lnTo>
                        <a:pt x="143" y="88"/>
                      </a:lnTo>
                      <a:lnTo>
                        <a:pt x="167" y="96"/>
                      </a:lnTo>
                      <a:lnTo>
                        <a:pt x="173" y="114"/>
                      </a:lnTo>
                      <a:lnTo>
                        <a:pt x="195" y="131"/>
                      </a:lnTo>
                      <a:lnTo>
                        <a:pt x="237" y="116"/>
                      </a:lnTo>
                      <a:lnTo>
                        <a:pt x="263" y="93"/>
                      </a:lnTo>
                      <a:lnTo>
                        <a:pt x="267" y="60"/>
                      </a:lnTo>
                      <a:lnTo>
                        <a:pt x="241" y="38"/>
                      </a:lnTo>
                      <a:lnTo>
                        <a:pt x="168" y="39"/>
                      </a:lnTo>
                      <a:lnTo>
                        <a:pt x="160" y="18"/>
                      </a:lnTo>
                      <a:lnTo>
                        <a:pt x="184" y="39"/>
                      </a:lnTo>
                      <a:lnTo>
                        <a:pt x="217" y="19"/>
                      </a:lnTo>
                      <a:lnTo>
                        <a:pt x="228" y="13"/>
                      </a:lnTo>
                      <a:lnTo>
                        <a:pt x="209" y="0"/>
                      </a:lnTo>
                      <a:lnTo>
                        <a:pt x="173" y="4"/>
                      </a:lnTo>
                      <a:lnTo>
                        <a:pt x="147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103640" y="4968720"/>
                  <a:ext cx="662040" cy="2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156200" y="4878360"/>
                <a:ext cx="804600" cy="370080"/>
                <a:chOff x="4156200" y="4878360"/>
                <a:chExt cx="804600" cy="3700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160880" y="4938840"/>
                  <a:ext cx="790560" cy="30960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159080" y="4878360"/>
                  <a:ext cx="785880" cy="31104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156200" y="505944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402080" y="52005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62640" y="5210280"/>
                  <a:ext cx="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708440" y="52023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869000" y="515160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60800" y="504972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60960" y="516240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343400" y="4929120"/>
                  <a:ext cx="426960" cy="209520"/>
                </a:xfrm>
                <a:custGeom>
                  <a:avLst/>
                  <a:gdLst/>
                  <a:ahLst/>
                  <a:rect l="l" t="t" r="r" b="b"/>
                  <a:pathLst>
                    <a:path w="269" h="132">
                      <a:moveTo>
                        <a:pt x="148" y="14"/>
                      </a:moveTo>
                      <a:lnTo>
                        <a:pt x="85" y="7"/>
                      </a:lnTo>
                      <a:lnTo>
                        <a:pt x="31" y="18"/>
                      </a:lnTo>
                      <a:lnTo>
                        <a:pt x="4" y="41"/>
                      </a:lnTo>
                      <a:lnTo>
                        <a:pt x="0" y="67"/>
                      </a:lnTo>
                      <a:lnTo>
                        <a:pt x="13" y="91"/>
                      </a:lnTo>
                      <a:lnTo>
                        <a:pt x="30" y="107"/>
                      </a:lnTo>
                      <a:lnTo>
                        <a:pt x="40" y="106"/>
                      </a:lnTo>
                      <a:lnTo>
                        <a:pt x="78" y="129"/>
                      </a:lnTo>
                      <a:lnTo>
                        <a:pt x="85" y="111"/>
                      </a:lnTo>
                      <a:lnTo>
                        <a:pt x="108" y="121"/>
                      </a:lnTo>
                      <a:lnTo>
                        <a:pt x="138" y="114"/>
                      </a:lnTo>
                      <a:lnTo>
                        <a:pt x="144" y="88"/>
                      </a:lnTo>
                      <a:lnTo>
                        <a:pt x="168" y="97"/>
                      </a:lnTo>
                      <a:lnTo>
                        <a:pt x="175" y="114"/>
                      </a:lnTo>
                      <a:lnTo>
                        <a:pt x="195" y="131"/>
                      </a:lnTo>
                      <a:lnTo>
                        <a:pt x="237" y="117"/>
                      </a:lnTo>
                      <a:lnTo>
                        <a:pt x="265" y="93"/>
                      </a:lnTo>
                      <a:lnTo>
                        <a:pt x="268" y="60"/>
                      </a:lnTo>
                      <a:lnTo>
                        <a:pt x="242" y="38"/>
                      </a:lnTo>
                      <a:lnTo>
                        <a:pt x="169" y="38"/>
                      </a:lnTo>
                      <a:lnTo>
                        <a:pt x="161" y="18"/>
                      </a:lnTo>
                      <a:lnTo>
                        <a:pt x="185" y="38"/>
                      </a:lnTo>
                      <a:lnTo>
                        <a:pt x="217" y="19"/>
                      </a:lnTo>
                      <a:lnTo>
                        <a:pt x="229" y="14"/>
                      </a:lnTo>
                      <a:lnTo>
                        <a:pt x="211" y="0"/>
                      </a:lnTo>
                      <a:lnTo>
                        <a:pt x="175" y="4"/>
                      </a:lnTo>
                      <a:lnTo>
                        <a:pt x="148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29280" y="4903920"/>
                  <a:ext cx="660240" cy="2584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125960" y="4794120"/>
                <a:ext cx="803160" cy="368280"/>
                <a:chOff x="4125960" y="4794120"/>
                <a:chExt cx="803160" cy="36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130640" y="4853160"/>
                  <a:ext cx="789120" cy="30924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29200" y="4794120"/>
                  <a:ext cx="788760" cy="30960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125960" y="497376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71840" y="511344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32400" y="5124600"/>
                  <a:ext cx="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681440" y="511488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838760" y="50655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29120" y="4965840"/>
                  <a:ext cx="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33960" y="507528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313160" y="4844880"/>
                  <a:ext cx="428760" cy="209880"/>
                </a:xfrm>
                <a:custGeom>
                  <a:avLst/>
                  <a:gdLst/>
                  <a:ahLst/>
                  <a:rect l="l" t="t" r="r" b="b"/>
                  <a:pathLst>
                    <a:path w="270" h="132">
                      <a:moveTo>
                        <a:pt x="149" y="14"/>
                      </a:moveTo>
                      <a:lnTo>
                        <a:pt x="85" y="7"/>
                      </a:lnTo>
                      <a:lnTo>
                        <a:pt x="31" y="18"/>
                      </a:lnTo>
                      <a:lnTo>
                        <a:pt x="4" y="41"/>
                      </a:lnTo>
                      <a:lnTo>
                        <a:pt x="0" y="68"/>
                      </a:lnTo>
                      <a:lnTo>
                        <a:pt x="14" y="91"/>
                      </a:lnTo>
                      <a:lnTo>
                        <a:pt x="31" y="108"/>
                      </a:lnTo>
                      <a:lnTo>
                        <a:pt x="40" y="106"/>
                      </a:lnTo>
                      <a:lnTo>
                        <a:pt x="78" y="129"/>
                      </a:lnTo>
                      <a:lnTo>
                        <a:pt x="86" y="110"/>
                      </a:lnTo>
                      <a:lnTo>
                        <a:pt x="107" y="121"/>
                      </a:lnTo>
                      <a:lnTo>
                        <a:pt x="139" y="114"/>
                      </a:lnTo>
                      <a:lnTo>
                        <a:pt x="144" y="88"/>
                      </a:lnTo>
                      <a:lnTo>
                        <a:pt x="168" y="96"/>
                      </a:lnTo>
                      <a:lnTo>
                        <a:pt x="176" y="114"/>
                      </a:lnTo>
                      <a:lnTo>
                        <a:pt x="196" y="131"/>
                      </a:lnTo>
                      <a:lnTo>
                        <a:pt x="238" y="117"/>
                      </a:lnTo>
                      <a:lnTo>
                        <a:pt x="266" y="93"/>
                      </a:lnTo>
                      <a:lnTo>
                        <a:pt x="269" y="60"/>
                      </a:lnTo>
                      <a:lnTo>
                        <a:pt x="243" y="38"/>
                      </a:lnTo>
                      <a:lnTo>
                        <a:pt x="170" y="39"/>
                      </a:lnTo>
                      <a:lnTo>
                        <a:pt x="162" y="18"/>
                      </a:lnTo>
                      <a:lnTo>
                        <a:pt x="186" y="39"/>
                      </a:lnTo>
                      <a:lnTo>
                        <a:pt x="218" y="20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4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00480" y="4816440"/>
                  <a:ext cx="660600" cy="2588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095720" y="4670280"/>
                <a:ext cx="804960" cy="368280"/>
                <a:chOff x="4095720" y="4670280"/>
                <a:chExt cx="804960" cy="368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102200" y="4729320"/>
                  <a:ext cx="788760" cy="30924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098960" y="4670280"/>
                  <a:ext cx="790560" cy="30960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095720" y="4851360"/>
                  <a:ext cx="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43400" y="498960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502160" y="5000760"/>
                  <a:ext cx="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651200" y="49910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811760" y="494352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00680" y="484020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203720" y="495288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284720" y="4718160"/>
                  <a:ext cx="426960" cy="212760"/>
                </a:xfrm>
                <a:custGeom>
                  <a:avLst/>
                  <a:gdLst/>
                  <a:ahLst/>
                  <a:rect l="l" t="t" r="r" b="b"/>
                  <a:pathLst>
                    <a:path w="269" h="134">
                      <a:moveTo>
                        <a:pt x="148" y="15"/>
                      </a:moveTo>
                      <a:lnTo>
                        <a:pt x="84" y="8"/>
                      </a:lnTo>
                      <a:lnTo>
                        <a:pt x="32" y="20"/>
                      </a:lnTo>
                      <a:lnTo>
                        <a:pt x="4" y="41"/>
                      </a:lnTo>
                      <a:lnTo>
                        <a:pt x="0" y="68"/>
                      </a:lnTo>
                      <a:lnTo>
                        <a:pt x="14" y="93"/>
                      </a:lnTo>
                      <a:lnTo>
                        <a:pt x="31" y="108"/>
                      </a:lnTo>
                      <a:lnTo>
                        <a:pt x="40" y="106"/>
                      </a:lnTo>
                      <a:lnTo>
                        <a:pt x="78" y="129"/>
                      </a:lnTo>
                      <a:lnTo>
                        <a:pt x="85" y="112"/>
                      </a:lnTo>
                      <a:lnTo>
                        <a:pt x="108" y="122"/>
                      </a:lnTo>
                      <a:lnTo>
                        <a:pt x="138" y="115"/>
                      </a:lnTo>
                      <a:lnTo>
                        <a:pt x="143" y="89"/>
                      </a:lnTo>
                      <a:lnTo>
                        <a:pt x="167" y="97"/>
                      </a:lnTo>
                      <a:lnTo>
                        <a:pt x="175" y="115"/>
                      </a:lnTo>
                      <a:lnTo>
                        <a:pt x="195" y="133"/>
                      </a:lnTo>
                      <a:lnTo>
                        <a:pt x="238" y="117"/>
                      </a:lnTo>
                      <a:lnTo>
                        <a:pt x="265" y="94"/>
                      </a:lnTo>
                      <a:lnTo>
                        <a:pt x="268" y="61"/>
                      </a:lnTo>
                      <a:lnTo>
                        <a:pt x="242" y="40"/>
                      </a:lnTo>
                      <a:lnTo>
                        <a:pt x="170" y="40"/>
                      </a:lnTo>
                      <a:lnTo>
                        <a:pt x="160" y="20"/>
                      </a:lnTo>
                      <a:lnTo>
                        <a:pt x="184" y="40"/>
                      </a:lnTo>
                      <a:lnTo>
                        <a:pt x="217" y="20"/>
                      </a:lnTo>
                      <a:lnTo>
                        <a:pt x="230" y="15"/>
                      </a:lnTo>
                      <a:lnTo>
                        <a:pt x="211" y="0"/>
                      </a:lnTo>
                      <a:lnTo>
                        <a:pt x="175" y="6"/>
                      </a:lnTo>
                      <a:lnTo>
                        <a:pt x="148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172040" y="4692600"/>
                  <a:ext cx="66024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87800" y="4572000"/>
                <a:ext cx="803160" cy="371520"/>
                <a:chOff x="4087800" y="4572000"/>
                <a:chExt cx="803160" cy="371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91040" y="4630680"/>
                  <a:ext cx="790560" cy="31284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91040" y="4572000"/>
                  <a:ext cx="788760" cy="3160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087800" y="475452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334040" y="489600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492800" y="490680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641840" y="48974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02040" y="484668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890960" y="4745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4000" y="485604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5000" y="4624560"/>
                  <a:ext cx="428760" cy="210960"/>
                </a:xfrm>
                <a:custGeom>
                  <a:avLst/>
                  <a:gdLst/>
                  <a:ahLst/>
                  <a:rect l="l" t="t" r="r" b="b"/>
                  <a:pathLst>
                    <a:path w="270" h="133">
                      <a:moveTo>
                        <a:pt x="148" y="14"/>
                      </a:moveTo>
                      <a:lnTo>
                        <a:pt x="84" y="8"/>
                      </a:lnTo>
                      <a:lnTo>
                        <a:pt x="32" y="20"/>
                      </a:lnTo>
                      <a:lnTo>
                        <a:pt x="4" y="42"/>
                      </a:lnTo>
                      <a:lnTo>
                        <a:pt x="0" y="68"/>
                      </a:lnTo>
                      <a:lnTo>
                        <a:pt x="14" y="92"/>
                      </a:lnTo>
                      <a:lnTo>
                        <a:pt x="31" y="108"/>
                      </a:lnTo>
                      <a:lnTo>
                        <a:pt x="40" y="106"/>
                      </a:lnTo>
                      <a:lnTo>
                        <a:pt x="78" y="129"/>
                      </a:lnTo>
                      <a:lnTo>
                        <a:pt x="86" y="111"/>
                      </a:lnTo>
                      <a:lnTo>
                        <a:pt x="107" y="122"/>
                      </a:lnTo>
                      <a:lnTo>
                        <a:pt x="138" y="116"/>
                      </a:lnTo>
                      <a:lnTo>
                        <a:pt x="144" y="88"/>
                      </a:lnTo>
                      <a:lnTo>
                        <a:pt x="168" y="97"/>
                      </a:lnTo>
                      <a:lnTo>
                        <a:pt x="175" y="116"/>
                      </a:lnTo>
                      <a:lnTo>
                        <a:pt x="196" y="132"/>
                      </a:lnTo>
                      <a:lnTo>
                        <a:pt x="238" y="117"/>
                      </a:lnTo>
                      <a:lnTo>
                        <a:pt x="265" y="94"/>
                      </a:lnTo>
                      <a:lnTo>
                        <a:pt x="269" y="62"/>
                      </a:lnTo>
                      <a:lnTo>
                        <a:pt x="243" y="39"/>
                      </a:lnTo>
                      <a:lnTo>
                        <a:pt x="170" y="40"/>
                      </a:lnTo>
                      <a:lnTo>
                        <a:pt x="162" y="20"/>
                      </a:lnTo>
                      <a:lnTo>
                        <a:pt x="186" y="40"/>
                      </a:lnTo>
                      <a:lnTo>
                        <a:pt x="218" y="20"/>
                      </a:lnTo>
                      <a:lnTo>
                        <a:pt x="230" y="14"/>
                      </a:lnTo>
                      <a:lnTo>
                        <a:pt x="211" y="0"/>
                      </a:lnTo>
                      <a:lnTo>
                        <a:pt x="175" y="4"/>
                      </a:lnTo>
                      <a:lnTo>
                        <a:pt x="148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62320" y="4597560"/>
                  <a:ext cx="65880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030560" y="4438800"/>
                <a:ext cx="801720" cy="371160"/>
                <a:chOff x="4030560" y="4438800"/>
                <a:chExt cx="801720" cy="371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033800" y="4497480"/>
                  <a:ext cx="789120" cy="3124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32360" y="4438800"/>
                  <a:ext cx="788760" cy="3124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030560" y="4619520"/>
                  <a:ext cx="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76800" y="476100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33760" y="477360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83160" y="476424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1920" y="471312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832280" y="461016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135320" y="47228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218120" y="4489560"/>
                  <a:ext cx="425160" cy="210960"/>
                </a:xfrm>
                <a:custGeom>
                  <a:avLst/>
                  <a:gdLst/>
                  <a:ahLst/>
                  <a:rect l="l" t="t" r="r" b="b"/>
                  <a:pathLst>
                    <a:path w="268" h="133">
                      <a:moveTo>
                        <a:pt x="147" y="14"/>
                      </a:moveTo>
                      <a:lnTo>
                        <a:pt x="83" y="8"/>
                      </a:lnTo>
                      <a:lnTo>
                        <a:pt x="32" y="19"/>
                      </a:lnTo>
                      <a:lnTo>
                        <a:pt x="4" y="41"/>
                      </a:lnTo>
                      <a:lnTo>
                        <a:pt x="0" y="69"/>
                      </a:lnTo>
                      <a:lnTo>
                        <a:pt x="14" y="93"/>
                      </a:lnTo>
                      <a:lnTo>
                        <a:pt x="31" y="108"/>
                      </a:lnTo>
                      <a:lnTo>
                        <a:pt x="41" y="107"/>
                      </a:lnTo>
                      <a:lnTo>
                        <a:pt x="78" y="130"/>
                      </a:lnTo>
                      <a:lnTo>
                        <a:pt x="85" y="111"/>
                      </a:lnTo>
                      <a:lnTo>
                        <a:pt x="107" y="122"/>
                      </a:lnTo>
                      <a:lnTo>
                        <a:pt x="137" y="116"/>
                      </a:lnTo>
                      <a:lnTo>
                        <a:pt x="143" y="88"/>
                      </a:lnTo>
                      <a:lnTo>
                        <a:pt x="167" y="97"/>
                      </a:lnTo>
                      <a:lnTo>
                        <a:pt x="173" y="116"/>
                      </a:lnTo>
                      <a:lnTo>
                        <a:pt x="195" y="132"/>
                      </a:lnTo>
                      <a:lnTo>
                        <a:pt x="237" y="117"/>
                      </a:lnTo>
                      <a:lnTo>
                        <a:pt x="263" y="95"/>
                      </a:lnTo>
                      <a:lnTo>
                        <a:pt x="267" y="61"/>
                      </a:lnTo>
                      <a:lnTo>
                        <a:pt x="241" y="39"/>
                      </a:lnTo>
                      <a:lnTo>
                        <a:pt x="168" y="40"/>
                      </a:lnTo>
                      <a:lnTo>
                        <a:pt x="160" y="19"/>
                      </a:lnTo>
                      <a:lnTo>
                        <a:pt x="184" y="40"/>
                      </a:lnTo>
                      <a:lnTo>
                        <a:pt x="217" y="20"/>
                      </a:lnTo>
                      <a:lnTo>
                        <a:pt x="228" y="14"/>
                      </a:lnTo>
                      <a:lnTo>
                        <a:pt x="209" y="0"/>
                      </a:lnTo>
                      <a:lnTo>
                        <a:pt x="173" y="6"/>
                      </a:lnTo>
                      <a:lnTo>
                        <a:pt x="147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103640" y="4464000"/>
                  <a:ext cx="66204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125960" y="4303800"/>
                <a:ext cx="803160" cy="372960"/>
                <a:chOff x="4125960" y="4303800"/>
                <a:chExt cx="803160" cy="3729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30640" y="4363920"/>
                  <a:ext cx="789120" cy="31284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129200" y="4303800"/>
                  <a:ext cx="78876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125960" y="4486320"/>
                  <a:ext cx="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371840" y="46274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32400" y="4638600"/>
                  <a:ext cx="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81440" y="462924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38760" y="457848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929120" y="447660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233960" y="458964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313160" y="4356000"/>
                  <a:ext cx="428760" cy="211320"/>
                </a:xfrm>
                <a:custGeom>
                  <a:avLst/>
                  <a:gdLst/>
                  <a:ahLst/>
                  <a:rect l="l" t="t" r="r" b="b"/>
                  <a:pathLst>
                    <a:path w="270" h="133">
                      <a:moveTo>
                        <a:pt x="149" y="15"/>
                      </a:moveTo>
                      <a:lnTo>
                        <a:pt x="85" y="8"/>
                      </a:lnTo>
                      <a:lnTo>
                        <a:pt x="31" y="19"/>
                      </a:lnTo>
                      <a:lnTo>
                        <a:pt x="4" y="41"/>
                      </a:lnTo>
                      <a:lnTo>
                        <a:pt x="0" y="68"/>
                      </a:lnTo>
                      <a:lnTo>
                        <a:pt x="14" y="92"/>
                      </a:lnTo>
                      <a:lnTo>
                        <a:pt x="31" y="107"/>
                      </a:lnTo>
                      <a:lnTo>
                        <a:pt x="40" y="106"/>
                      </a:lnTo>
                      <a:lnTo>
                        <a:pt x="78" y="129"/>
                      </a:lnTo>
                      <a:lnTo>
                        <a:pt x="86" y="111"/>
                      </a:lnTo>
                      <a:lnTo>
                        <a:pt x="107" y="122"/>
                      </a:lnTo>
                      <a:lnTo>
                        <a:pt x="139" y="115"/>
                      </a:lnTo>
                      <a:lnTo>
                        <a:pt x="144" y="87"/>
                      </a:lnTo>
                      <a:lnTo>
                        <a:pt x="168" y="97"/>
                      </a:lnTo>
                      <a:lnTo>
                        <a:pt x="176" y="115"/>
                      </a:lnTo>
                      <a:lnTo>
                        <a:pt x="196" y="132"/>
                      </a:lnTo>
                      <a:lnTo>
                        <a:pt x="238" y="117"/>
                      </a:lnTo>
                      <a:lnTo>
                        <a:pt x="266" y="94"/>
                      </a:lnTo>
                      <a:lnTo>
                        <a:pt x="269" y="61"/>
                      </a:lnTo>
                      <a:lnTo>
                        <a:pt x="243" y="39"/>
                      </a:lnTo>
                      <a:lnTo>
                        <a:pt x="170" y="40"/>
                      </a:lnTo>
                      <a:lnTo>
                        <a:pt x="162" y="19"/>
                      </a:lnTo>
                      <a:lnTo>
                        <a:pt x="186" y="40"/>
                      </a:lnTo>
                      <a:lnTo>
                        <a:pt x="218" y="20"/>
                      </a:lnTo>
                      <a:lnTo>
                        <a:pt x="231" y="15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0480" y="4330800"/>
                  <a:ext cx="660600" cy="2588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35320" y="4192560"/>
                <a:ext cx="803520" cy="370080"/>
                <a:chOff x="4135320" y="4192560"/>
                <a:chExt cx="803520" cy="370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140360" y="4248000"/>
                  <a:ext cx="788760" cy="31464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38560" y="4192560"/>
                  <a:ext cx="789120" cy="31104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35320" y="4370400"/>
                  <a:ext cx="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381560" y="451152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40320" y="45259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91160" y="451332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48120" y="446400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938840" y="436248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241880" y="44751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324320" y="4241880"/>
                  <a:ext cx="425520" cy="210960"/>
                </a:xfrm>
                <a:custGeom>
                  <a:avLst/>
                  <a:gdLst/>
                  <a:ahLst/>
                  <a:rect l="l" t="t" r="r" b="b"/>
                  <a:pathLst>
                    <a:path w="268" h="133">
                      <a:moveTo>
                        <a:pt x="148" y="13"/>
                      </a:moveTo>
                      <a:lnTo>
                        <a:pt x="83" y="7"/>
                      </a:lnTo>
                      <a:lnTo>
                        <a:pt x="31" y="19"/>
                      </a:lnTo>
                      <a:lnTo>
                        <a:pt x="4" y="40"/>
                      </a:lnTo>
                      <a:lnTo>
                        <a:pt x="0" y="67"/>
                      </a:lnTo>
                      <a:lnTo>
                        <a:pt x="13" y="92"/>
                      </a:lnTo>
                      <a:lnTo>
                        <a:pt x="30" y="108"/>
                      </a:lnTo>
                      <a:lnTo>
                        <a:pt x="40" y="105"/>
                      </a:lnTo>
                      <a:lnTo>
                        <a:pt x="78" y="129"/>
                      </a:lnTo>
                      <a:lnTo>
                        <a:pt x="84" y="111"/>
                      </a:lnTo>
                      <a:lnTo>
                        <a:pt x="107" y="122"/>
                      </a:lnTo>
                      <a:lnTo>
                        <a:pt x="138" y="115"/>
                      </a:lnTo>
                      <a:lnTo>
                        <a:pt x="142" y="88"/>
                      </a:lnTo>
                      <a:lnTo>
                        <a:pt x="167" y="97"/>
                      </a:lnTo>
                      <a:lnTo>
                        <a:pt x="174" y="115"/>
                      </a:lnTo>
                      <a:lnTo>
                        <a:pt x="194" y="132"/>
                      </a:lnTo>
                      <a:lnTo>
                        <a:pt x="237" y="116"/>
                      </a:lnTo>
                      <a:lnTo>
                        <a:pt x="264" y="93"/>
                      </a:lnTo>
                      <a:lnTo>
                        <a:pt x="267" y="61"/>
                      </a:lnTo>
                      <a:lnTo>
                        <a:pt x="242" y="39"/>
                      </a:lnTo>
                      <a:lnTo>
                        <a:pt x="169" y="40"/>
                      </a:lnTo>
                      <a:lnTo>
                        <a:pt x="159" y="19"/>
                      </a:lnTo>
                      <a:lnTo>
                        <a:pt x="184" y="40"/>
                      </a:lnTo>
                      <a:lnTo>
                        <a:pt x="216" y="20"/>
                      </a:lnTo>
                      <a:lnTo>
                        <a:pt x="229" y="13"/>
                      </a:lnTo>
                      <a:lnTo>
                        <a:pt x="210" y="0"/>
                      </a:lnTo>
                      <a:lnTo>
                        <a:pt x="174" y="5"/>
                      </a:lnTo>
                      <a:lnTo>
                        <a:pt x="148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10200" y="4216320"/>
                  <a:ext cx="661680" cy="257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211640" y="4143240"/>
              <a:ext cx="801720" cy="373320"/>
              <a:chOff x="4211640" y="4143240"/>
              <a:chExt cx="801720" cy="373320"/>
            </a:xfrm>
          </p:grpSpPr>
          <p:sp>
            <p:nvSpPr>
              <p:cNvPr id="190" name=""/>
              <p:cNvSpPr/>
              <p:nvPr/>
            </p:nvSpPr>
            <p:spPr>
              <a:xfrm>
                <a:off x="4216320" y="4202280"/>
                <a:ext cx="789120" cy="314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14880" y="4143240"/>
                <a:ext cx="788760" cy="3146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11640" y="4325760"/>
                <a:ext cx="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59320" y="446724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18080" y="447984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65680" y="446868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24440" y="44179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13360" y="431640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17840" y="442908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00640" y="4194000"/>
                <a:ext cx="426960" cy="212760"/>
              </a:xfrm>
              <a:custGeom>
                <a:avLst/>
                <a:gdLst/>
                <a:ahLst/>
                <a:rect l="l" t="t" r="r" b="b"/>
                <a:pathLst>
                  <a:path w="269" h="134">
                    <a:moveTo>
                      <a:pt x="149" y="14"/>
                    </a:moveTo>
                    <a:lnTo>
                      <a:pt x="85" y="8"/>
                    </a:lnTo>
                    <a:lnTo>
                      <a:pt x="31" y="20"/>
                    </a:lnTo>
                    <a:lnTo>
                      <a:pt x="5" y="42"/>
                    </a:lnTo>
                    <a:lnTo>
                      <a:pt x="0" y="69"/>
                    </a:lnTo>
                    <a:lnTo>
                      <a:pt x="14" y="94"/>
                    </a:lnTo>
                    <a:lnTo>
                      <a:pt x="31" y="109"/>
                    </a:lnTo>
                    <a:lnTo>
                      <a:pt x="41" y="108"/>
                    </a:lnTo>
                    <a:lnTo>
                      <a:pt x="79" y="130"/>
                    </a:lnTo>
                    <a:lnTo>
                      <a:pt x="86" y="112"/>
                    </a:lnTo>
                    <a:lnTo>
                      <a:pt x="108" y="123"/>
                    </a:lnTo>
                    <a:lnTo>
                      <a:pt x="138" y="117"/>
                    </a:lnTo>
                    <a:lnTo>
                      <a:pt x="144" y="89"/>
                    </a:lnTo>
                    <a:lnTo>
                      <a:pt x="168" y="98"/>
                    </a:lnTo>
                    <a:lnTo>
                      <a:pt x="175" y="117"/>
                    </a:lnTo>
                    <a:lnTo>
                      <a:pt x="195" y="133"/>
                    </a:lnTo>
                    <a:lnTo>
                      <a:pt x="237" y="118"/>
                    </a:lnTo>
                    <a:lnTo>
                      <a:pt x="265" y="96"/>
                    </a:lnTo>
                    <a:lnTo>
                      <a:pt x="268" y="62"/>
                    </a:lnTo>
                    <a:lnTo>
                      <a:pt x="243" y="41"/>
                    </a:lnTo>
                    <a:lnTo>
                      <a:pt x="170" y="42"/>
                    </a:lnTo>
                    <a:lnTo>
                      <a:pt x="161" y="20"/>
                    </a:lnTo>
                    <a:lnTo>
                      <a:pt x="185" y="42"/>
                    </a:lnTo>
                    <a:lnTo>
                      <a:pt x="217" y="21"/>
                    </a:lnTo>
                    <a:lnTo>
                      <a:pt x="230" y="14"/>
                    </a:lnTo>
                    <a:lnTo>
                      <a:pt x="211" y="0"/>
                    </a:lnTo>
                    <a:lnTo>
                      <a:pt x="175" y="6"/>
                    </a:lnTo>
                    <a:lnTo>
                      <a:pt x="149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86160" y="4168800"/>
                <a:ext cx="65880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6215040" y="1271520"/>
            <a:ext cx="2514600" cy="4160880"/>
            <a:chOff x="6215040" y="1271520"/>
            <a:chExt cx="2514600" cy="4160880"/>
          </a:xfrm>
        </p:grpSpPr>
        <p:grpSp>
          <p:nvGrpSpPr>
            <p:cNvPr id="202" name=""/>
            <p:cNvGrpSpPr/>
            <p:nvPr/>
          </p:nvGrpSpPr>
          <p:grpSpPr>
            <a:xfrm>
              <a:off x="7002360" y="4078440"/>
              <a:ext cx="984240" cy="1288800"/>
              <a:chOff x="7002360" y="4078440"/>
              <a:chExt cx="984240" cy="128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002360" y="4129200"/>
                <a:ext cx="930240" cy="1238040"/>
                <a:chOff x="7002360" y="4129200"/>
                <a:chExt cx="930240" cy="123804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7108920" y="4994280"/>
                  <a:ext cx="801720" cy="372960"/>
                  <a:chOff x="7108920" y="4994280"/>
                  <a:chExt cx="801720" cy="372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112160" y="5051520"/>
                    <a:ext cx="790560" cy="31572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110360" y="499428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108920" y="51753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353360" y="53182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512120" y="53290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662960" y="53197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819920" y="52671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910640" y="516564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213680" y="52783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297560" y="5045040"/>
                    <a:ext cx="4240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5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183440" y="501804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002360" y="4881600"/>
                  <a:ext cx="801720" cy="369720"/>
                  <a:chOff x="7002360" y="4881600"/>
                  <a:chExt cx="801720" cy="36972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007400" y="493704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05600" y="4881600"/>
                    <a:ext cx="78732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02360" y="505944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250040" y="52023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407360" y="52135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556400" y="52038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713720" y="51530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04080" y="505152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108920" y="5165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191360" y="4930920"/>
                    <a:ext cx="4255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9"/>
                        </a:lnTo>
                        <a:lnTo>
                          <a:pt x="41" y="105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5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3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077240" y="490392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129440" y="4813200"/>
                  <a:ext cx="803160" cy="370080"/>
                  <a:chOff x="7129440" y="4813200"/>
                  <a:chExt cx="803160" cy="3700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7132680" y="4873680"/>
                    <a:ext cx="7905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130880" y="4813200"/>
                    <a:ext cx="78768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129440" y="49942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373880" y="51354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534440" y="51465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680240" y="5137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840800" y="5086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932600" y="498492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232760" y="50976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315200" y="4865760"/>
                    <a:ext cx="42696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1">
                        <a:moveTo>
                          <a:pt x="148" y="13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3" y="90"/>
                        </a:lnTo>
                        <a:lnTo>
                          <a:pt x="30" y="106"/>
                        </a:lnTo>
                        <a:lnTo>
                          <a:pt x="40" y="105"/>
                        </a:lnTo>
                        <a:lnTo>
                          <a:pt x="78" y="128"/>
                        </a:lnTo>
                        <a:lnTo>
                          <a:pt x="85" y="110"/>
                        </a:lnTo>
                        <a:lnTo>
                          <a:pt x="108" y="120"/>
                        </a:lnTo>
                        <a:lnTo>
                          <a:pt x="138" y="113"/>
                        </a:lnTo>
                        <a:lnTo>
                          <a:pt x="144" y="87"/>
                        </a:lnTo>
                        <a:lnTo>
                          <a:pt x="168" y="96"/>
                        </a:lnTo>
                        <a:lnTo>
                          <a:pt x="175" y="113"/>
                        </a:lnTo>
                        <a:lnTo>
                          <a:pt x="195" y="130"/>
                        </a:lnTo>
                        <a:lnTo>
                          <a:pt x="237" y="116"/>
                        </a:lnTo>
                        <a:lnTo>
                          <a:pt x="265" y="92"/>
                        </a:lnTo>
                        <a:lnTo>
                          <a:pt x="268" y="59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3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201080" y="483876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099200" y="4729320"/>
                  <a:ext cx="801720" cy="369720"/>
                  <a:chOff x="7099200" y="4729320"/>
                  <a:chExt cx="801720" cy="3697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102440" y="4788000"/>
                    <a:ext cx="789120" cy="3110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101000" y="4729320"/>
                    <a:ext cx="790560" cy="3092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099200" y="49086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343640" y="50497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504200" y="5059440"/>
                    <a:ext cx="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653240" y="5051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10560" y="50007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00920" y="4900680"/>
                    <a:ext cx="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205760" y="5010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286760" y="478008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174080" y="475128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068960" y="4605480"/>
                  <a:ext cx="803520" cy="369720"/>
                  <a:chOff x="7068960" y="4605480"/>
                  <a:chExt cx="803520" cy="3697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7074000" y="4664160"/>
                    <a:ext cx="788760" cy="3110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070760" y="460548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068960" y="478620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315200" y="49258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473960" y="493560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623000" y="49258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783560" y="48783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872480" y="47768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176960" y="48880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257960" y="465444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145280" y="4627440"/>
                    <a:ext cx="65880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061040" y="4508640"/>
                  <a:ext cx="801720" cy="369720"/>
                  <a:chOff x="7061040" y="4508640"/>
                  <a:chExt cx="801720" cy="3697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7064280" y="456552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062840" y="4508640"/>
                    <a:ext cx="7887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061040" y="46893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305840" y="48308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466040" y="484200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613640" y="48322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73840" y="47815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862760" y="468000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167600" y="47926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48600" y="4559400"/>
                    <a:ext cx="4269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4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9"/>
                        </a:lnTo>
                        <a:lnTo>
                          <a:pt x="40" y="107"/>
                        </a:lnTo>
                        <a:lnTo>
                          <a:pt x="78" y="130"/>
                        </a:lnTo>
                        <a:lnTo>
                          <a:pt x="86" y="112"/>
                        </a:lnTo>
                        <a:lnTo>
                          <a:pt x="107" y="123"/>
                        </a:lnTo>
                        <a:lnTo>
                          <a:pt x="137" y="117"/>
                        </a:lnTo>
                        <a:lnTo>
                          <a:pt x="143" y="89"/>
                        </a:lnTo>
                        <a:lnTo>
                          <a:pt x="168" y="98"/>
                        </a:lnTo>
                        <a:lnTo>
                          <a:pt x="174" y="117"/>
                        </a:lnTo>
                        <a:lnTo>
                          <a:pt x="195" y="133"/>
                        </a:lnTo>
                        <a:lnTo>
                          <a:pt x="237" y="118"/>
                        </a:lnTo>
                        <a:lnTo>
                          <a:pt x="264" y="95"/>
                        </a:lnTo>
                        <a:lnTo>
                          <a:pt x="268" y="62"/>
                        </a:lnTo>
                        <a:lnTo>
                          <a:pt x="242" y="40"/>
                        </a:lnTo>
                        <a:lnTo>
                          <a:pt x="169" y="41"/>
                        </a:lnTo>
                        <a:lnTo>
                          <a:pt x="161" y="20"/>
                        </a:lnTo>
                        <a:lnTo>
                          <a:pt x="185" y="41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5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135920" y="4532400"/>
                    <a:ext cx="6570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002360" y="4373640"/>
                  <a:ext cx="801720" cy="371520"/>
                  <a:chOff x="7002360" y="4373640"/>
                  <a:chExt cx="801720" cy="3715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7007400" y="4432320"/>
                    <a:ext cx="7873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005600" y="4373640"/>
                    <a:ext cx="7873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002360" y="455436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250040" y="46958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407360" y="4708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556400" y="46990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713720" y="46483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804080" y="45450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108920" y="46594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191360" y="442440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9"/>
                        </a:lnTo>
                        <a:lnTo>
                          <a:pt x="41" y="108"/>
                        </a:lnTo>
                        <a:lnTo>
                          <a:pt x="78" y="131"/>
                        </a:lnTo>
                        <a:lnTo>
                          <a:pt x="85" y="112"/>
                        </a:lnTo>
                        <a:lnTo>
                          <a:pt x="107" y="123"/>
                        </a:lnTo>
                        <a:lnTo>
                          <a:pt x="137" y="117"/>
                        </a:lnTo>
                        <a:lnTo>
                          <a:pt x="143" y="89"/>
                        </a:lnTo>
                        <a:lnTo>
                          <a:pt x="167" y="98"/>
                        </a:lnTo>
                        <a:lnTo>
                          <a:pt x="173" y="117"/>
                        </a:lnTo>
                        <a:lnTo>
                          <a:pt x="195" y="133"/>
                        </a:lnTo>
                        <a:lnTo>
                          <a:pt x="237" y="118"/>
                        </a:lnTo>
                        <a:lnTo>
                          <a:pt x="263" y="96"/>
                        </a:lnTo>
                        <a:lnTo>
                          <a:pt x="267" y="62"/>
                        </a:lnTo>
                        <a:lnTo>
                          <a:pt x="241" y="40"/>
                        </a:lnTo>
                        <a:lnTo>
                          <a:pt x="168" y="41"/>
                        </a:lnTo>
                        <a:lnTo>
                          <a:pt x="160" y="19"/>
                        </a:lnTo>
                        <a:lnTo>
                          <a:pt x="184" y="41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077240" y="4398840"/>
                    <a:ext cx="6602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099200" y="4238640"/>
                  <a:ext cx="801720" cy="374760"/>
                  <a:chOff x="7099200" y="4238640"/>
                  <a:chExt cx="801720" cy="374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7102440" y="4299120"/>
                    <a:ext cx="7891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101000" y="423864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099200" y="44211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43640" y="45640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504200" y="457344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653240" y="45640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810560" y="45133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900920" y="441324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205760" y="45259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286760" y="4290840"/>
                    <a:ext cx="4269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4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2"/>
                        </a:lnTo>
                        <a:lnTo>
                          <a:pt x="0" y="69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7"/>
                        </a:lnTo>
                        <a:lnTo>
                          <a:pt x="78" y="130"/>
                        </a:lnTo>
                        <a:lnTo>
                          <a:pt x="86" y="112"/>
                        </a:lnTo>
                        <a:lnTo>
                          <a:pt x="107" y="123"/>
                        </a:lnTo>
                        <a:lnTo>
                          <a:pt x="138" y="116"/>
                        </a:lnTo>
                        <a:lnTo>
                          <a:pt x="144" y="88"/>
                        </a:lnTo>
                        <a:lnTo>
                          <a:pt x="167" y="97"/>
                        </a:lnTo>
                        <a:lnTo>
                          <a:pt x="175" y="116"/>
                        </a:lnTo>
                        <a:lnTo>
                          <a:pt x="195" y="133"/>
                        </a:lnTo>
                        <a:lnTo>
                          <a:pt x="237" y="118"/>
                        </a:lnTo>
                        <a:lnTo>
                          <a:pt x="265" y="95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1"/>
                        </a:lnTo>
                        <a:lnTo>
                          <a:pt x="161" y="19"/>
                        </a:lnTo>
                        <a:lnTo>
                          <a:pt x="185" y="41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174080" y="426564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108920" y="4129200"/>
                  <a:ext cx="801720" cy="368280"/>
                  <a:chOff x="7108920" y="4129200"/>
                  <a:chExt cx="801720" cy="3682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7112160" y="4183200"/>
                    <a:ext cx="7905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7110360" y="412920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108920" y="430704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353360" y="4448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512120" y="44607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662960" y="4448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819920" y="439884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910640" y="429732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213680" y="44118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297560" y="4176720"/>
                    <a:ext cx="4240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4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9"/>
                        </a:lnTo>
                        <a:lnTo>
                          <a:pt x="40" y="106"/>
                        </a:lnTo>
                        <a:lnTo>
                          <a:pt x="78" y="130"/>
                        </a:lnTo>
                        <a:lnTo>
                          <a:pt x="84" y="111"/>
                        </a:lnTo>
                        <a:lnTo>
                          <a:pt x="106" y="123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8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5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183440" y="4151160"/>
                    <a:ext cx="660240" cy="25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7183440" y="4078440"/>
                <a:ext cx="803160" cy="374400"/>
                <a:chOff x="7183440" y="4078440"/>
                <a:chExt cx="803160" cy="374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188120" y="4138560"/>
                  <a:ext cx="78912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188120" y="4078440"/>
                  <a:ext cx="7873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83440" y="426240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31120" y="440388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589880" y="441468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738920" y="440388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897680" y="435276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986600" y="4253040"/>
                  <a:ext cx="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291440" y="43639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372440" y="4129200"/>
                  <a:ext cx="428400" cy="212760"/>
                </a:xfrm>
                <a:custGeom>
                  <a:avLst/>
                  <a:gdLst/>
                  <a:ahLst/>
                  <a:rect l="l" t="t" r="r" b="b"/>
                  <a:pathLst>
                    <a:path w="270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7" y="112"/>
                      </a:lnTo>
                      <a:lnTo>
                        <a:pt x="108" y="123"/>
                      </a:lnTo>
                      <a:lnTo>
                        <a:pt x="139" y="117"/>
                      </a:lnTo>
                      <a:lnTo>
                        <a:pt x="144" y="89"/>
                      </a:lnTo>
                      <a:lnTo>
                        <a:pt x="169" y="98"/>
                      </a:lnTo>
                      <a:lnTo>
                        <a:pt x="176" y="117"/>
                      </a:lnTo>
                      <a:lnTo>
                        <a:pt x="196" y="133"/>
                      </a:lnTo>
                      <a:lnTo>
                        <a:pt x="238" y="118"/>
                      </a:lnTo>
                      <a:lnTo>
                        <a:pt x="266" y="96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257960" y="4103640"/>
                  <a:ext cx="66060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6215040" y="4143240"/>
              <a:ext cx="982800" cy="1289160"/>
              <a:chOff x="6215040" y="4143240"/>
              <a:chExt cx="982800" cy="12891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15040" y="4192560"/>
                <a:ext cx="928800" cy="1239840"/>
                <a:chOff x="6215040" y="4192560"/>
                <a:chExt cx="928800" cy="123984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319800" y="5059440"/>
                  <a:ext cx="801720" cy="372960"/>
                  <a:chOff x="6319800" y="5059440"/>
                  <a:chExt cx="801720" cy="3729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6323040" y="5116680"/>
                    <a:ext cx="790560" cy="31572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321600" y="505944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319800" y="52387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564240" y="53830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723000" y="53942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873840" y="53848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032600" y="53323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7121520" y="523080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424560" y="53434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508800" y="510840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3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4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394320" y="5083200"/>
                    <a:ext cx="6606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215040" y="4944960"/>
                  <a:ext cx="800280" cy="371520"/>
                  <a:chOff x="6215040" y="4944960"/>
                  <a:chExt cx="800280" cy="3715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218280" y="500220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216480" y="4944960"/>
                    <a:ext cx="7891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215040" y="512460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461280" y="5267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618240" y="52783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767640" y="52689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924600" y="5218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015320" y="511488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319800" y="52293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402240" y="4995720"/>
                    <a:ext cx="4255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2">
                        <a:moveTo>
                          <a:pt x="147" y="13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7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3" y="114"/>
                        </a:lnTo>
                        <a:lnTo>
                          <a:pt x="195" y="131"/>
                        </a:lnTo>
                        <a:lnTo>
                          <a:pt x="237" y="116"/>
                        </a:lnTo>
                        <a:lnTo>
                          <a:pt x="263" y="93"/>
                        </a:lnTo>
                        <a:lnTo>
                          <a:pt x="267" y="60"/>
                        </a:lnTo>
                        <a:lnTo>
                          <a:pt x="241" y="38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288120" y="4968720"/>
                    <a:ext cx="6602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340320" y="4878360"/>
                  <a:ext cx="803520" cy="370080"/>
                  <a:chOff x="6340320" y="4878360"/>
                  <a:chExt cx="803520" cy="3700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343560" y="4938840"/>
                    <a:ext cx="7923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342120" y="4878360"/>
                    <a:ext cx="78732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340320" y="505944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585120" y="5200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745320" y="521028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892920" y="52023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051680" y="5151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143840" y="504972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445080" y="516240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526080" y="4929120"/>
                    <a:ext cx="4273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411960" y="4903920"/>
                    <a:ext cx="66204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310440" y="4794120"/>
                  <a:ext cx="801720" cy="368280"/>
                  <a:chOff x="6310440" y="4794120"/>
                  <a:chExt cx="801720" cy="368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313320" y="4853160"/>
                    <a:ext cx="790920" cy="3092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311880" y="479412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310440" y="49737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554880" y="5113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715080" y="5124600"/>
                    <a:ext cx="0" cy="37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864480" y="51148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021440" y="5065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112160" y="496584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16640" y="50752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97640" y="4844880"/>
                    <a:ext cx="426960" cy="20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84960" y="4816440"/>
                    <a:ext cx="66024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280200" y="4670280"/>
                  <a:ext cx="803160" cy="368280"/>
                  <a:chOff x="6280200" y="4670280"/>
                  <a:chExt cx="803160" cy="36828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284880" y="4729320"/>
                    <a:ext cx="790560" cy="3092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281640" y="4670280"/>
                    <a:ext cx="7923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280200" y="485136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526080" y="4989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684840" y="500076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834240" y="49910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994440" y="49435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083360" y="484020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88200" y="495288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469200" y="4718160"/>
                    <a:ext cx="4251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56520" y="469260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272280" y="4572000"/>
                  <a:ext cx="801720" cy="371520"/>
                  <a:chOff x="6272280" y="4572000"/>
                  <a:chExt cx="801720" cy="3715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6275520" y="4630680"/>
                    <a:ext cx="7905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273720" y="4572000"/>
                    <a:ext cx="790560" cy="3160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272280" y="47545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516720" y="48960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676920" y="49068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824520" y="48974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985080" y="48466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074000" y="47451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378480" y="48560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459480" y="4624560"/>
                    <a:ext cx="4269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346800" y="459756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215040" y="4438800"/>
                  <a:ext cx="800280" cy="371160"/>
                  <a:chOff x="6215040" y="4438800"/>
                  <a:chExt cx="800280" cy="3711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6218280" y="4497480"/>
                    <a:ext cx="787320" cy="3124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216480" y="4438800"/>
                    <a:ext cx="789120" cy="31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215040" y="461952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461280" y="47610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618240" y="47736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767640" y="47642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924600" y="471312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015320" y="46101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19800" y="47228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402240" y="4489560"/>
                    <a:ext cx="4255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5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288120" y="446400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6310440" y="4303800"/>
                  <a:ext cx="801720" cy="372960"/>
                  <a:chOff x="6310440" y="4303800"/>
                  <a:chExt cx="801720" cy="3729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6313320" y="4363920"/>
                    <a:ext cx="7909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311880" y="430380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310440" y="44863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554880" y="46274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715080" y="463860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864480" y="46292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021440" y="45784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112160" y="44766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416640" y="45896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497640" y="435600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4" y="87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19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384960" y="4330800"/>
                    <a:ext cx="66024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319800" y="4192560"/>
                  <a:ext cx="801720" cy="370080"/>
                  <a:chOff x="6319800" y="4192560"/>
                  <a:chExt cx="801720" cy="3700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323040" y="4248000"/>
                    <a:ext cx="790560" cy="3146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321600" y="419256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319800" y="437040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564240" y="45115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723000" y="45259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873840" y="45133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032600" y="44640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121520" y="436248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424560" y="4475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508800" y="4241880"/>
                    <a:ext cx="4255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3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4" y="132"/>
                        </a:lnTo>
                        <a:lnTo>
                          <a:pt x="237" y="116"/>
                        </a:lnTo>
                        <a:lnTo>
                          <a:pt x="264" y="93"/>
                        </a:lnTo>
                        <a:lnTo>
                          <a:pt x="267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9" y="13"/>
                        </a:lnTo>
                        <a:lnTo>
                          <a:pt x="210" y="0"/>
                        </a:lnTo>
                        <a:lnTo>
                          <a:pt x="174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94320" y="4216320"/>
                    <a:ext cx="660600" cy="25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6394320" y="4143240"/>
                <a:ext cx="803520" cy="373320"/>
                <a:chOff x="6394320" y="4143240"/>
                <a:chExt cx="803520" cy="3733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400800" y="4202280"/>
                  <a:ext cx="78732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399360" y="4143240"/>
                  <a:ext cx="787320" cy="31464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394320" y="4325760"/>
                  <a:ext cx="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643800" y="44672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802560" y="447984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950160" y="446868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108920" y="441792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97840" y="431640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502320" y="442908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583320" y="4194000"/>
                  <a:ext cx="428760" cy="212760"/>
                </a:xfrm>
                <a:custGeom>
                  <a:avLst/>
                  <a:gdLst/>
                  <a:ahLst/>
                  <a:rect l="l" t="t" r="r" b="b"/>
                  <a:pathLst>
                    <a:path w="270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7" y="112"/>
                      </a:lnTo>
                      <a:lnTo>
                        <a:pt x="108" y="123"/>
                      </a:lnTo>
                      <a:lnTo>
                        <a:pt x="139" y="117"/>
                      </a:lnTo>
                      <a:lnTo>
                        <a:pt x="144" y="89"/>
                      </a:lnTo>
                      <a:lnTo>
                        <a:pt x="169" y="98"/>
                      </a:lnTo>
                      <a:lnTo>
                        <a:pt x="176" y="117"/>
                      </a:lnTo>
                      <a:lnTo>
                        <a:pt x="196" y="133"/>
                      </a:lnTo>
                      <a:lnTo>
                        <a:pt x="238" y="118"/>
                      </a:lnTo>
                      <a:lnTo>
                        <a:pt x="266" y="96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470640" y="4168800"/>
                  <a:ext cx="65880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7002360" y="2979720"/>
              <a:ext cx="984240" cy="1289160"/>
              <a:chOff x="7002360" y="2979720"/>
              <a:chExt cx="984240" cy="1289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7002360" y="3030480"/>
                <a:ext cx="930240" cy="1238400"/>
                <a:chOff x="7002360" y="3030480"/>
                <a:chExt cx="930240" cy="123840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7108920" y="3895560"/>
                  <a:ext cx="801720" cy="373320"/>
                  <a:chOff x="7108920" y="3895560"/>
                  <a:chExt cx="801720" cy="3733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7112160" y="3952800"/>
                    <a:ext cx="790560" cy="3160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110360" y="3895560"/>
                    <a:ext cx="790560" cy="3146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108920" y="407664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53360" y="4219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512120" y="42307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662960" y="422100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819920" y="41688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10640" y="406728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213680" y="41799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297560" y="3944880"/>
                    <a:ext cx="4240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5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2" y="93"/>
                        </a:lnTo>
                        <a:lnTo>
                          <a:pt x="30" y="109"/>
                        </a:lnTo>
                        <a:lnTo>
                          <a:pt x="40" y="107"/>
                        </a:lnTo>
                        <a:lnTo>
                          <a:pt x="78" y="130"/>
                        </a:lnTo>
                        <a:lnTo>
                          <a:pt x="84" y="113"/>
                        </a:lnTo>
                        <a:lnTo>
                          <a:pt x="106" y="123"/>
                        </a:lnTo>
                        <a:lnTo>
                          <a:pt x="137" y="116"/>
                        </a:lnTo>
                        <a:lnTo>
                          <a:pt x="142" y="89"/>
                        </a:lnTo>
                        <a:lnTo>
                          <a:pt x="167" y="98"/>
                        </a:lnTo>
                        <a:lnTo>
                          <a:pt x="173" y="116"/>
                        </a:lnTo>
                        <a:lnTo>
                          <a:pt x="194" y="134"/>
                        </a:lnTo>
                        <a:lnTo>
                          <a:pt x="236" y="118"/>
                        </a:lnTo>
                        <a:lnTo>
                          <a:pt x="263" y="95"/>
                        </a:lnTo>
                        <a:lnTo>
                          <a:pt x="266" y="62"/>
                        </a:lnTo>
                        <a:lnTo>
                          <a:pt x="241" y="40"/>
                        </a:lnTo>
                        <a:lnTo>
                          <a:pt x="169" y="41"/>
                        </a:lnTo>
                        <a:lnTo>
                          <a:pt x="159" y="19"/>
                        </a:lnTo>
                        <a:lnTo>
                          <a:pt x="184" y="41"/>
                        </a:lnTo>
                        <a:lnTo>
                          <a:pt x="216" y="20"/>
                        </a:lnTo>
                        <a:lnTo>
                          <a:pt x="228" y="15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183440" y="391968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002360" y="3782880"/>
                  <a:ext cx="801720" cy="370080"/>
                  <a:chOff x="7002360" y="3782880"/>
                  <a:chExt cx="801720" cy="37008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7007400" y="383868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005600" y="3782880"/>
                    <a:ext cx="787320" cy="3114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002360" y="396072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250040" y="41036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407360" y="41148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556400" y="41054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713720" y="40543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804080" y="395136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108920" y="40672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191360" y="3832200"/>
                    <a:ext cx="4255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9"/>
                        </a:lnTo>
                        <a:lnTo>
                          <a:pt x="41" y="105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5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3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077240" y="380520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129440" y="3714840"/>
                  <a:ext cx="803160" cy="369720"/>
                  <a:chOff x="7129440" y="3714840"/>
                  <a:chExt cx="803160" cy="3697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7132680" y="3774960"/>
                    <a:ext cx="7905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130880" y="3714840"/>
                    <a:ext cx="787680" cy="31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129440" y="38955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373880" y="40370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534440" y="40482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680240" y="40384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840800" y="39877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932600" y="38862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232760" y="39988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315200" y="3767040"/>
                    <a:ext cx="4269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1">
                        <a:moveTo>
                          <a:pt x="148" y="13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3" y="90"/>
                        </a:lnTo>
                        <a:lnTo>
                          <a:pt x="30" y="106"/>
                        </a:lnTo>
                        <a:lnTo>
                          <a:pt x="40" y="105"/>
                        </a:lnTo>
                        <a:lnTo>
                          <a:pt x="78" y="128"/>
                        </a:lnTo>
                        <a:lnTo>
                          <a:pt x="85" y="110"/>
                        </a:lnTo>
                        <a:lnTo>
                          <a:pt x="108" y="120"/>
                        </a:lnTo>
                        <a:lnTo>
                          <a:pt x="138" y="113"/>
                        </a:lnTo>
                        <a:lnTo>
                          <a:pt x="144" y="87"/>
                        </a:lnTo>
                        <a:lnTo>
                          <a:pt x="168" y="96"/>
                        </a:lnTo>
                        <a:lnTo>
                          <a:pt x="175" y="113"/>
                        </a:lnTo>
                        <a:lnTo>
                          <a:pt x="195" y="130"/>
                        </a:lnTo>
                        <a:lnTo>
                          <a:pt x="237" y="116"/>
                        </a:lnTo>
                        <a:lnTo>
                          <a:pt x="265" y="92"/>
                        </a:lnTo>
                        <a:lnTo>
                          <a:pt x="268" y="59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3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201080" y="3740040"/>
                    <a:ext cx="6602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099200" y="3630600"/>
                  <a:ext cx="801720" cy="370080"/>
                  <a:chOff x="7099200" y="3630600"/>
                  <a:chExt cx="801720" cy="3700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102440" y="3689280"/>
                    <a:ext cx="789120" cy="3114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101000" y="363060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099200" y="38098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343640" y="39513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504200" y="3960720"/>
                    <a:ext cx="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653240" y="39513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810560" y="39020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900920" y="3801960"/>
                    <a:ext cx="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205760" y="39117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286760" y="368136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74080" y="365292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068960" y="3506760"/>
                  <a:ext cx="803520" cy="370080"/>
                  <a:chOff x="7068960" y="3506760"/>
                  <a:chExt cx="803520" cy="37008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7074000" y="3565440"/>
                    <a:ext cx="788760" cy="3114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070760" y="350676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068960" y="36878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315200" y="38275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473960" y="383688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623000" y="38275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783560" y="37800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872480" y="367668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176960" y="37893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257960" y="355608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145280" y="352908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061040" y="3409920"/>
                  <a:ext cx="801720" cy="370080"/>
                  <a:chOff x="7061040" y="3409920"/>
                  <a:chExt cx="801720" cy="37008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064280" y="346716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062840" y="3409920"/>
                    <a:ext cx="7887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061040" y="35910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305840" y="3732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466040" y="374328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613640" y="37339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773840" y="36831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862760" y="358128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167600" y="36939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248600" y="346068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135920" y="3433680"/>
                    <a:ext cx="6570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002360" y="3274920"/>
                  <a:ext cx="801720" cy="371520"/>
                  <a:chOff x="7002360" y="3274920"/>
                  <a:chExt cx="801720" cy="3715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7007400" y="3333600"/>
                    <a:ext cx="7873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005600" y="3274920"/>
                    <a:ext cx="7873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002360" y="345600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250040" y="3597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407360" y="36100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556400" y="36003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713720" y="35496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804080" y="34466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108920" y="35607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191360" y="332568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9"/>
                        </a:lnTo>
                        <a:lnTo>
                          <a:pt x="41" y="108"/>
                        </a:lnTo>
                        <a:lnTo>
                          <a:pt x="78" y="131"/>
                        </a:lnTo>
                        <a:lnTo>
                          <a:pt x="85" y="112"/>
                        </a:lnTo>
                        <a:lnTo>
                          <a:pt x="107" y="123"/>
                        </a:lnTo>
                        <a:lnTo>
                          <a:pt x="137" y="117"/>
                        </a:lnTo>
                        <a:lnTo>
                          <a:pt x="143" y="89"/>
                        </a:lnTo>
                        <a:lnTo>
                          <a:pt x="167" y="98"/>
                        </a:lnTo>
                        <a:lnTo>
                          <a:pt x="173" y="117"/>
                        </a:lnTo>
                        <a:lnTo>
                          <a:pt x="195" y="133"/>
                        </a:lnTo>
                        <a:lnTo>
                          <a:pt x="237" y="118"/>
                        </a:lnTo>
                        <a:lnTo>
                          <a:pt x="263" y="96"/>
                        </a:lnTo>
                        <a:lnTo>
                          <a:pt x="267" y="62"/>
                        </a:lnTo>
                        <a:lnTo>
                          <a:pt x="241" y="40"/>
                        </a:lnTo>
                        <a:lnTo>
                          <a:pt x="168" y="41"/>
                        </a:lnTo>
                        <a:lnTo>
                          <a:pt x="160" y="19"/>
                        </a:lnTo>
                        <a:lnTo>
                          <a:pt x="184" y="41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077240" y="330048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099200" y="3139920"/>
                  <a:ext cx="801720" cy="374760"/>
                  <a:chOff x="7099200" y="3139920"/>
                  <a:chExt cx="801720" cy="37476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7102440" y="3200400"/>
                    <a:ext cx="7891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101000" y="3139920"/>
                    <a:ext cx="790560" cy="3146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099200" y="332280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343640" y="34639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504200" y="347508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653240" y="34653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7810560" y="3414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900920" y="331488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205760" y="34275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286760" y="3192480"/>
                    <a:ext cx="4269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4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2"/>
                        </a:lnTo>
                        <a:lnTo>
                          <a:pt x="0" y="69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7"/>
                        </a:lnTo>
                        <a:lnTo>
                          <a:pt x="78" y="130"/>
                        </a:lnTo>
                        <a:lnTo>
                          <a:pt x="86" y="112"/>
                        </a:lnTo>
                        <a:lnTo>
                          <a:pt x="107" y="123"/>
                        </a:lnTo>
                        <a:lnTo>
                          <a:pt x="138" y="116"/>
                        </a:lnTo>
                        <a:lnTo>
                          <a:pt x="144" y="88"/>
                        </a:lnTo>
                        <a:lnTo>
                          <a:pt x="167" y="97"/>
                        </a:lnTo>
                        <a:lnTo>
                          <a:pt x="175" y="116"/>
                        </a:lnTo>
                        <a:lnTo>
                          <a:pt x="195" y="133"/>
                        </a:lnTo>
                        <a:lnTo>
                          <a:pt x="237" y="118"/>
                        </a:lnTo>
                        <a:lnTo>
                          <a:pt x="265" y="95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1"/>
                        </a:lnTo>
                        <a:lnTo>
                          <a:pt x="161" y="19"/>
                        </a:lnTo>
                        <a:lnTo>
                          <a:pt x="185" y="41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174080" y="316692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7108920" y="3030480"/>
                  <a:ext cx="801720" cy="368280"/>
                  <a:chOff x="7108920" y="3030480"/>
                  <a:chExt cx="801720" cy="3682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7112160" y="3084480"/>
                    <a:ext cx="7905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110360" y="303048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108920" y="32083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353360" y="33498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512120" y="33624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662960" y="33498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819920" y="33004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910640" y="319896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213680" y="33130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297560" y="3078000"/>
                    <a:ext cx="4240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4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9"/>
                        </a:lnTo>
                        <a:lnTo>
                          <a:pt x="40" y="106"/>
                        </a:lnTo>
                        <a:lnTo>
                          <a:pt x="78" y="130"/>
                        </a:lnTo>
                        <a:lnTo>
                          <a:pt x="84" y="111"/>
                        </a:lnTo>
                        <a:lnTo>
                          <a:pt x="106" y="123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8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5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183440" y="3052800"/>
                    <a:ext cx="660240" cy="25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6" name=""/>
              <p:cNvGrpSpPr/>
              <p:nvPr/>
            </p:nvGrpSpPr>
            <p:grpSpPr>
              <a:xfrm>
                <a:off x="7183440" y="2979720"/>
                <a:ext cx="803160" cy="374760"/>
                <a:chOff x="7183440" y="2979720"/>
                <a:chExt cx="803160" cy="3747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7188120" y="3040200"/>
                  <a:ext cx="78912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88120" y="2979720"/>
                  <a:ext cx="7873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183440" y="316404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431120" y="33051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589880" y="331632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738920" y="33051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897680" y="325440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986600" y="315432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291440" y="326556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72440" y="3030480"/>
                  <a:ext cx="428400" cy="212760"/>
                </a:xfrm>
                <a:custGeom>
                  <a:avLst/>
                  <a:gdLst/>
                  <a:ahLst/>
                  <a:rect l="l" t="t" r="r" b="b"/>
                  <a:pathLst>
                    <a:path w="270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7" y="112"/>
                      </a:lnTo>
                      <a:lnTo>
                        <a:pt x="108" y="123"/>
                      </a:lnTo>
                      <a:lnTo>
                        <a:pt x="139" y="117"/>
                      </a:lnTo>
                      <a:lnTo>
                        <a:pt x="144" y="89"/>
                      </a:lnTo>
                      <a:lnTo>
                        <a:pt x="169" y="98"/>
                      </a:lnTo>
                      <a:lnTo>
                        <a:pt x="176" y="117"/>
                      </a:lnTo>
                      <a:lnTo>
                        <a:pt x="196" y="133"/>
                      </a:lnTo>
                      <a:lnTo>
                        <a:pt x="238" y="118"/>
                      </a:lnTo>
                      <a:lnTo>
                        <a:pt x="266" y="96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257960" y="3005280"/>
                  <a:ext cx="66060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7659720" y="4143240"/>
              <a:ext cx="984240" cy="1289160"/>
              <a:chOff x="7659720" y="4143240"/>
              <a:chExt cx="984240" cy="128916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7659720" y="4192560"/>
                <a:ext cx="930240" cy="1239840"/>
                <a:chOff x="7659720" y="4192560"/>
                <a:chExt cx="930240" cy="123984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7765920" y="5059440"/>
                  <a:ext cx="801720" cy="372960"/>
                  <a:chOff x="7765920" y="5059440"/>
                  <a:chExt cx="801720" cy="3729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7769160" y="5116680"/>
                    <a:ext cx="790560" cy="31572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767720" y="505944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765920" y="52387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8010360" y="53830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169120" y="53942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8319960" y="53848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8477280" y="53323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8567640" y="523080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870680" y="53434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954920" y="5108400"/>
                    <a:ext cx="4240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5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840800" y="508320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7659720" y="4944960"/>
                  <a:ext cx="801720" cy="371520"/>
                  <a:chOff x="7659720" y="4944960"/>
                  <a:chExt cx="801720" cy="3715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7664400" y="500220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7662960" y="4944960"/>
                    <a:ext cx="7873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659720" y="512460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907400" y="5267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8064360" y="52783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8213760" y="52689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8370720" y="5218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8461440" y="511488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765920" y="52293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848720" y="4995720"/>
                    <a:ext cx="4251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2">
                        <a:moveTo>
                          <a:pt x="147" y="13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7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3" y="114"/>
                        </a:lnTo>
                        <a:lnTo>
                          <a:pt x="195" y="131"/>
                        </a:lnTo>
                        <a:lnTo>
                          <a:pt x="237" y="116"/>
                        </a:lnTo>
                        <a:lnTo>
                          <a:pt x="263" y="93"/>
                        </a:lnTo>
                        <a:lnTo>
                          <a:pt x="267" y="60"/>
                        </a:lnTo>
                        <a:lnTo>
                          <a:pt x="241" y="38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734240" y="4968720"/>
                    <a:ext cx="66060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786800" y="4878360"/>
                  <a:ext cx="803160" cy="370080"/>
                  <a:chOff x="7786800" y="4878360"/>
                  <a:chExt cx="803160" cy="3700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7790040" y="4938840"/>
                    <a:ext cx="7905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788240" y="4878360"/>
                    <a:ext cx="78732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786800" y="505944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8031240" y="5200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8191440" y="521028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8337600" y="52023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8497800" y="5151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8589960" y="504972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7889760" y="516240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972560" y="492912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858080" y="4903920"/>
                    <a:ext cx="66060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7756560" y="4794120"/>
                  <a:ext cx="801720" cy="368280"/>
                  <a:chOff x="7756560" y="4794120"/>
                  <a:chExt cx="801720" cy="3682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7759800" y="4853160"/>
                    <a:ext cx="788760" cy="3092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758000" y="479412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756560" y="49737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8001000" y="5113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8161200" y="5124600"/>
                    <a:ext cx="0" cy="37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8310600" y="51148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8467560" y="5065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8558280" y="496584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862760" y="50752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943760" y="4844880"/>
                    <a:ext cx="426960" cy="20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831080" y="481644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7726320" y="4670280"/>
                  <a:ext cx="803160" cy="368280"/>
                  <a:chOff x="7726320" y="4670280"/>
                  <a:chExt cx="803160" cy="36828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7731000" y="4729320"/>
                    <a:ext cx="789120" cy="3092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728120" y="467028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726320" y="485136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7972560" y="4989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8131320" y="500076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8280360" y="49910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440560" y="49435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8529480" y="484020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834320" y="495288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915320" y="471816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802640" y="469260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7718400" y="4572000"/>
                  <a:ext cx="801720" cy="371520"/>
                  <a:chOff x="7718400" y="4572000"/>
                  <a:chExt cx="801720" cy="3715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7721640" y="463068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7719840" y="4572000"/>
                    <a:ext cx="789120" cy="3160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7718400" y="47545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962840" y="48960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123400" y="49068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8271000" y="48974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8431200" y="48466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8520120" y="47451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824960" y="48560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905600" y="4624560"/>
                    <a:ext cx="4273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792920" y="4597560"/>
                    <a:ext cx="65736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659720" y="4438800"/>
                  <a:ext cx="801720" cy="371160"/>
                  <a:chOff x="7659720" y="4438800"/>
                  <a:chExt cx="801720" cy="3711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7664400" y="4497480"/>
                    <a:ext cx="787320" cy="3124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7662960" y="4438800"/>
                    <a:ext cx="787320" cy="31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659720" y="461952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907400" y="47610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064360" y="47736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8213760" y="47642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8370720" y="471312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8461440" y="46101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7765920" y="47228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7848720" y="4489560"/>
                    <a:ext cx="4251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5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734240" y="4464000"/>
                    <a:ext cx="6606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7756560" y="4303800"/>
                  <a:ext cx="801720" cy="372960"/>
                  <a:chOff x="7756560" y="4303800"/>
                  <a:chExt cx="801720" cy="3729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7759800" y="4363920"/>
                    <a:ext cx="7887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7758000" y="430380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7756560" y="44863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8001000" y="46274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8161200" y="463860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8310600" y="46292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8467560" y="45784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8558280" y="44766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7862760" y="45896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943760" y="435600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4" y="87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19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7831080" y="433080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7765920" y="4192560"/>
                  <a:ext cx="801720" cy="370080"/>
                  <a:chOff x="7765920" y="4192560"/>
                  <a:chExt cx="801720" cy="3700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7769160" y="4248000"/>
                    <a:ext cx="790560" cy="3146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7767720" y="419256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7765920" y="437040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8010360" y="45115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8169120" y="45259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8319960" y="45133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8477280" y="44640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8567640" y="436248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7870680" y="4475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954920" y="4241880"/>
                    <a:ext cx="424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2"/>
                        </a:lnTo>
                        <a:lnTo>
                          <a:pt x="236" y="116"/>
                        </a:lnTo>
                        <a:lnTo>
                          <a:pt x="263" y="93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7840800" y="4216320"/>
                    <a:ext cx="660240" cy="25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8" name=""/>
              <p:cNvGrpSpPr/>
              <p:nvPr/>
            </p:nvGrpSpPr>
            <p:grpSpPr>
              <a:xfrm>
                <a:off x="7840800" y="4143240"/>
                <a:ext cx="803160" cy="373320"/>
                <a:chOff x="7840800" y="4143240"/>
                <a:chExt cx="803160" cy="3733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845480" y="4202280"/>
                  <a:ext cx="78876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845480" y="4143240"/>
                  <a:ext cx="787320" cy="31464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840800" y="4325760"/>
                  <a:ext cx="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88480" y="446724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247240" y="447984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396280" y="446868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55040" y="441792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643960" y="431640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948440" y="442908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029440" y="4194000"/>
                  <a:ext cx="428760" cy="212760"/>
                </a:xfrm>
                <a:custGeom>
                  <a:avLst/>
                  <a:gdLst/>
                  <a:ahLst/>
                  <a:rect l="l" t="t" r="r" b="b"/>
                  <a:pathLst>
                    <a:path w="270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7" y="112"/>
                      </a:lnTo>
                      <a:lnTo>
                        <a:pt x="108" y="123"/>
                      </a:lnTo>
                      <a:lnTo>
                        <a:pt x="139" y="117"/>
                      </a:lnTo>
                      <a:lnTo>
                        <a:pt x="144" y="89"/>
                      </a:lnTo>
                      <a:lnTo>
                        <a:pt x="169" y="98"/>
                      </a:lnTo>
                      <a:lnTo>
                        <a:pt x="176" y="117"/>
                      </a:lnTo>
                      <a:lnTo>
                        <a:pt x="196" y="133"/>
                      </a:lnTo>
                      <a:lnTo>
                        <a:pt x="238" y="118"/>
                      </a:lnTo>
                      <a:lnTo>
                        <a:pt x="266" y="96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915320" y="4168800"/>
                  <a:ext cx="66024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0" name=""/>
            <p:cNvGrpSpPr/>
            <p:nvPr/>
          </p:nvGrpSpPr>
          <p:grpSpPr>
            <a:xfrm>
              <a:off x="7659720" y="3044880"/>
              <a:ext cx="984240" cy="1289160"/>
              <a:chOff x="7659720" y="3044880"/>
              <a:chExt cx="984240" cy="128916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7659720" y="3094200"/>
                <a:ext cx="930240" cy="1239840"/>
                <a:chOff x="7659720" y="3094200"/>
                <a:chExt cx="930240" cy="123984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7765920" y="3960720"/>
                  <a:ext cx="801720" cy="373320"/>
                  <a:chOff x="7765920" y="3960720"/>
                  <a:chExt cx="801720" cy="37332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7769160" y="4017960"/>
                    <a:ext cx="790560" cy="3160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7767720" y="396072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7765920" y="41403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010360" y="42847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8169120" y="42958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8319960" y="42861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8477280" y="42339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8567640" y="413244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870680" y="4245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954920" y="4010040"/>
                    <a:ext cx="4240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5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840800" y="3984480"/>
                    <a:ext cx="6602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7659720" y="3846600"/>
                  <a:ext cx="801720" cy="371520"/>
                  <a:chOff x="7659720" y="3846600"/>
                  <a:chExt cx="801720" cy="37152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7664400" y="390384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662960" y="3846600"/>
                    <a:ext cx="787320" cy="31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659720" y="402588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907400" y="41688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8064360" y="41799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8213760" y="417024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8370720" y="41194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8461440" y="401652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765920" y="4130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848720" y="3897360"/>
                    <a:ext cx="4251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2">
                        <a:moveTo>
                          <a:pt x="147" y="13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7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3" y="114"/>
                        </a:lnTo>
                        <a:lnTo>
                          <a:pt x="195" y="131"/>
                        </a:lnTo>
                        <a:lnTo>
                          <a:pt x="237" y="116"/>
                        </a:lnTo>
                        <a:lnTo>
                          <a:pt x="263" y="93"/>
                        </a:lnTo>
                        <a:lnTo>
                          <a:pt x="267" y="60"/>
                        </a:lnTo>
                        <a:lnTo>
                          <a:pt x="241" y="38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734240" y="3870360"/>
                    <a:ext cx="6606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7786800" y="3780000"/>
                  <a:ext cx="803160" cy="369720"/>
                  <a:chOff x="7786800" y="3780000"/>
                  <a:chExt cx="803160" cy="36972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7790040" y="3840120"/>
                    <a:ext cx="7905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788240" y="3780000"/>
                    <a:ext cx="78732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7786800" y="39607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8031240" y="4102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8191440" y="411156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8337600" y="4102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8497800" y="4052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8589960" y="395136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7889760" y="40640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972560" y="383076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858080" y="3805200"/>
                    <a:ext cx="6606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7756560" y="3695760"/>
                  <a:ext cx="801720" cy="368280"/>
                  <a:chOff x="7756560" y="3695760"/>
                  <a:chExt cx="801720" cy="36828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7759800" y="3754440"/>
                    <a:ext cx="7887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758000" y="3695760"/>
                    <a:ext cx="79056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7756560" y="387504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8001000" y="40147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8161200" y="4025880"/>
                    <a:ext cx="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310600" y="40165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467560" y="39672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8558280" y="386712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862760" y="3976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943760" y="374652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7831080" y="3718080"/>
                    <a:ext cx="65880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0" name=""/>
                <p:cNvGrpSpPr/>
                <p:nvPr/>
              </p:nvGrpSpPr>
              <p:grpSpPr>
                <a:xfrm>
                  <a:off x="7726320" y="3570120"/>
                  <a:ext cx="803160" cy="370080"/>
                  <a:chOff x="7726320" y="3570120"/>
                  <a:chExt cx="803160" cy="37008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7731000" y="3630600"/>
                    <a:ext cx="78912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7728120" y="3570120"/>
                    <a:ext cx="790560" cy="3114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726320" y="375300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972560" y="3890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8131320" y="390204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8280360" y="38926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440560" y="384480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8529480" y="374184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7834320" y="3854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7915320" y="361944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7802640" y="359424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7718400" y="3473280"/>
                  <a:ext cx="801720" cy="371520"/>
                  <a:chOff x="7718400" y="3473280"/>
                  <a:chExt cx="801720" cy="3715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7721640" y="3532320"/>
                    <a:ext cx="789120" cy="3124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7719840" y="3473280"/>
                    <a:ext cx="789120" cy="3160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7718400" y="36561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7962840" y="37972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8123400" y="3808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8271000" y="37987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8431200" y="37479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8520120" y="36464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7824960" y="37576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7905600" y="3525840"/>
                    <a:ext cx="4273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792920" y="3498840"/>
                    <a:ext cx="65736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7659720" y="3340080"/>
                  <a:ext cx="801720" cy="371520"/>
                  <a:chOff x="7659720" y="3340080"/>
                  <a:chExt cx="801720" cy="3715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7664400" y="3398760"/>
                    <a:ext cx="7873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7662960" y="3340080"/>
                    <a:ext cx="7873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7659720" y="35211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7907400" y="36622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8064360" y="36752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8213760" y="3665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8370720" y="36147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8461440" y="35114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765920" y="36241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7848720" y="3390840"/>
                    <a:ext cx="4251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5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7734240" y="3365640"/>
                    <a:ext cx="6606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7756560" y="3205080"/>
                  <a:ext cx="801720" cy="373320"/>
                  <a:chOff x="7756560" y="3205080"/>
                  <a:chExt cx="801720" cy="37332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>
                    <a:off x="7759800" y="3265560"/>
                    <a:ext cx="7887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7758000" y="320508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7756560" y="338760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8001000" y="35290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161200" y="354024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310600" y="3530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8467560" y="34797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558280" y="33782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7862760" y="34909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943760" y="3257640"/>
                    <a:ext cx="4269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4" y="87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19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7831080" y="323208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7765920" y="3094200"/>
                  <a:ext cx="801720" cy="369720"/>
                  <a:chOff x="7765920" y="3094200"/>
                  <a:chExt cx="801720" cy="3697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7769160" y="3149640"/>
                    <a:ext cx="7905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767720" y="309420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765920" y="327168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8010360" y="34131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8169120" y="34275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8319960" y="34146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8477280" y="3365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8567640" y="326376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870680" y="33764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7954920" y="3143160"/>
                    <a:ext cx="42408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2"/>
                        </a:lnTo>
                        <a:lnTo>
                          <a:pt x="236" y="116"/>
                        </a:lnTo>
                        <a:lnTo>
                          <a:pt x="263" y="93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7840800" y="3117960"/>
                    <a:ext cx="660240" cy="25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0" name=""/>
              <p:cNvGrpSpPr/>
              <p:nvPr/>
            </p:nvGrpSpPr>
            <p:grpSpPr>
              <a:xfrm>
                <a:off x="7840800" y="3044880"/>
                <a:ext cx="803160" cy="372960"/>
                <a:chOff x="7840800" y="3044880"/>
                <a:chExt cx="803160" cy="3729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7845480" y="3103560"/>
                  <a:ext cx="78876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845480" y="3044880"/>
                  <a:ext cx="7873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840800" y="3227400"/>
                  <a:ext cx="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88480" y="33685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247240" y="338148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396280" y="337032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555040" y="331956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643960" y="3218040"/>
                  <a:ext cx="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948440" y="333072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029440" y="3095640"/>
                  <a:ext cx="428760" cy="212760"/>
                </a:xfrm>
                <a:custGeom>
                  <a:avLst/>
                  <a:gdLst/>
                  <a:ahLst/>
                  <a:rect l="l" t="t" r="r" b="b"/>
                  <a:pathLst>
                    <a:path w="270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7" y="112"/>
                      </a:lnTo>
                      <a:lnTo>
                        <a:pt x="108" y="123"/>
                      </a:lnTo>
                      <a:lnTo>
                        <a:pt x="139" y="117"/>
                      </a:lnTo>
                      <a:lnTo>
                        <a:pt x="144" y="89"/>
                      </a:lnTo>
                      <a:lnTo>
                        <a:pt x="169" y="98"/>
                      </a:lnTo>
                      <a:lnTo>
                        <a:pt x="176" y="117"/>
                      </a:lnTo>
                      <a:lnTo>
                        <a:pt x="196" y="133"/>
                      </a:lnTo>
                      <a:lnTo>
                        <a:pt x="238" y="118"/>
                      </a:lnTo>
                      <a:lnTo>
                        <a:pt x="266" y="96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915320" y="3070080"/>
                  <a:ext cx="660240" cy="2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2" name=""/>
            <p:cNvGrpSpPr/>
            <p:nvPr/>
          </p:nvGrpSpPr>
          <p:grpSpPr>
            <a:xfrm>
              <a:off x="7002360" y="1946160"/>
              <a:ext cx="984240" cy="1289160"/>
              <a:chOff x="7002360" y="1946160"/>
              <a:chExt cx="984240" cy="128916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7002360" y="1995480"/>
                <a:ext cx="930240" cy="1239840"/>
                <a:chOff x="7002360" y="1995480"/>
                <a:chExt cx="930240" cy="1239840"/>
              </a:xfrm>
            </p:grpSpPr>
            <p:grpSp>
              <p:nvGrpSpPr>
                <p:cNvPr id="814" name=""/>
                <p:cNvGrpSpPr/>
                <p:nvPr/>
              </p:nvGrpSpPr>
              <p:grpSpPr>
                <a:xfrm>
                  <a:off x="7108920" y="2862360"/>
                  <a:ext cx="801720" cy="372960"/>
                  <a:chOff x="7108920" y="2862360"/>
                  <a:chExt cx="801720" cy="37296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>
                    <a:off x="7112160" y="2919240"/>
                    <a:ext cx="790560" cy="3160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110360" y="286236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108920" y="304164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353360" y="31860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12120" y="31971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662960" y="31878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819920" y="31352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7910640" y="303372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7213680" y="31464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7297560" y="2911320"/>
                    <a:ext cx="42408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5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7183440" y="288612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002360" y="2747880"/>
                  <a:ext cx="801720" cy="371520"/>
                  <a:chOff x="7002360" y="2747880"/>
                  <a:chExt cx="801720" cy="3715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7007400" y="280512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7005600" y="2747880"/>
                    <a:ext cx="7873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002360" y="29275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7250040" y="30700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407360" y="30812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7556400" y="30718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7713720" y="30211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7804080" y="291780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7108920" y="30322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7191360" y="2798640"/>
                    <a:ext cx="4255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2">
                        <a:moveTo>
                          <a:pt x="147" y="13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7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3" y="114"/>
                        </a:lnTo>
                        <a:lnTo>
                          <a:pt x="195" y="131"/>
                        </a:lnTo>
                        <a:lnTo>
                          <a:pt x="237" y="116"/>
                        </a:lnTo>
                        <a:lnTo>
                          <a:pt x="263" y="93"/>
                        </a:lnTo>
                        <a:lnTo>
                          <a:pt x="267" y="60"/>
                        </a:lnTo>
                        <a:lnTo>
                          <a:pt x="241" y="38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7077240" y="2771640"/>
                    <a:ext cx="6602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7129440" y="2681280"/>
                  <a:ext cx="803160" cy="369720"/>
                  <a:chOff x="7129440" y="2681280"/>
                  <a:chExt cx="803160" cy="36972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>
                    <a:off x="7132680" y="2741760"/>
                    <a:ext cx="790560" cy="3092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130880" y="2681280"/>
                    <a:ext cx="78768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7129440" y="28623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7373880" y="30034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7534440" y="301320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7680240" y="30034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7840800" y="295416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7932600" y="285264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7232760" y="296532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7315200" y="273204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201080" y="2706840"/>
                    <a:ext cx="66024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7099200" y="2595600"/>
                  <a:ext cx="801720" cy="369720"/>
                  <a:chOff x="7099200" y="2595600"/>
                  <a:chExt cx="801720" cy="36972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7102440" y="2655720"/>
                    <a:ext cx="78912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7101000" y="259560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7099200" y="27766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7343640" y="29163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7504200" y="292752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653240" y="29178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7810560" y="28684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7900920" y="276876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7205760" y="2878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7286760" y="2647800"/>
                    <a:ext cx="426960" cy="20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7174080" y="261936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7068960" y="2471760"/>
                  <a:ext cx="803520" cy="369720"/>
                  <a:chOff x="7068960" y="2471760"/>
                  <a:chExt cx="803520" cy="3697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7074000" y="2532240"/>
                    <a:ext cx="788760" cy="3092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070760" y="247176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7068960" y="265428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7315200" y="27925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7473960" y="280368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7623000" y="27939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7783560" y="27464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7872480" y="264312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7176960" y="27558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7257960" y="252108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7145280" y="249552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7061040" y="2374920"/>
                  <a:ext cx="801720" cy="371520"/>
                  <a:chOff x="7061040" y="2374920"/>
                  <a:chExt cx="801720" cy="37152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7064280" y="243360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062840" y="2374920"/>
                    <a:ext cx="7887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061040" y="255744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305840" y="26989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7466040" y="27097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7613640" y="27003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773840" y="264960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862760" y="254808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167600" y="26589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248600" y="242712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135920" y="2400480"/>
                    <a:ext cx="6570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7002360" y="2241720"/>
                  <a:ext cx="801720" cy="371160"/>
                  <a:chOff x="7002360" y="2241720"/>
                  <a:chExt cx="801720" cy="37116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7007400" y="2300400"/>
                    <a:ext cx="787320" cy="3124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7005600" y="2241720"/>
                    <a:ext cx="787320" cy="31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7002360" y="242244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250040" y="25639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407360" y="25765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7556400" y="25671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7713720" y="251604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7804080" y="241308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108920" y="25257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191360" y="2292480"/>
                    <a:ext cx="4255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5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077240" y="226692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7099200" y="2106720"/>
                  <a:ext cx="801720" cy="372960"/>
                  <a:chOff x="7099200" y="2106720"/>
                  <a:chExt cx="801720" cy="37296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7102440" y="216684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101000" y="210672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099200" y="228924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343640" y="24303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04200" y="24415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7653240" y="24321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7810560" y="23814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7900920" y="227952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7205760" y="23922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7286760" y="215892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4" y="87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19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174080" y="2133720"/>
                    <a:ext cx="65880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7108920" y="1995480"/>
                  <a:ext cx="801720" cy="369720"/>
                  <a:chOff x="7108920" y="1995480"/>
                  <a:chExt cx="801720" cy="36972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7112160" y="2050920"/>
                    <a:ext cx="7905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7110360" y="199548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7108920" y="21733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7353360" y="2314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7512120" y="23288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7662960" y="23162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7819920" y="22669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7910640" y="216540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7213680" y="22780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7297560" y="2044800"/>
                    <a:ext cx="424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2"/>
                        </a:lnTo>
                        <a:lnTo>
                          <a:pt x="236" y="116"/>
                        </a:lnTo>
                        <a:lnTo>
                          <a:pt x="263" y="93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7183440" y="2019240"/>
                    <a:ext cx="660240" cy="25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2" name=""/>
              <p:cNvGrpSpPr/>
              <p:nvPr/>
            </p:nvGrpSpPr>
            <p:grpSpPr>
              <a:xfrm>
                <a:off x="7183440" y="1946160"/>
                <a:ext cx="803160" cy="373320"/>
                <a:chOff x="7183440" y="1946160"/>
                <a:chExt cx="803160" cy="3733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7188120" y="2004840"/>
                  <a:ext cx="789120" cy="31464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188120" y="1946160"/>
                  <a:ext cx="7873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183440" y="2128680"/>
                  <a:ext cx="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31120" y="22701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589880" y="228276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738920" y="227160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897680" y="222084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986600" y="2119320"/>
                  <a:ext cx="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291440" y="223200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372440" y="1995480"/>
                  <a:ext cx="428400" cy="214200"/>
                </a:xfrm>
                <a:custGeom>
                  <a:avLst/>
                  <a:gdLst/>
                  <a:ahLst/>
                  <a:rect l="l" t="t" r="r" b="b"/>
                  <a:pathLst>
                    <a:path w="270" h="135">
                      <a:moveTo>
                        <a:pt x="149" y="14"/>
                      </a:moveTo>
                      <a:lnTo>
                        <a:pt x="85" y="9"/>
                      </a:lnTo>
                      <a:lnTo>
                        <a:pt x="31" y="20"/>
                      </a:lnTo>
                      <a:lnTo>
                        <a:pt x="5" y="43"/>
                      </a:lnTo>
                      <a:lnTo>
                        <a:pt x="0" y="70"/>
                      </a:lnTo>
                      <a:lnTo>
                        <a:pt x="14" y="94"/>
                      </a:lnTo>
                      <a:lnTo>
                        <a:pt x="31" y="110"/>
                      </a:lnTo>
                      <a:lnTo>
                        <a:pt x="41" y="108"/>
                      </a:lnTo>
                      <a:lnTo>
                        <a:pt x="79" y="131"/>
                      </a:lnTo>
                      <a:lnTo>
                        <a:pt x="87" y="113"/>
                      </a:lnTo>
                      <a:lnTo>
                        <a:pt x="108" y="124"/>
                      </a:lnTo>
                      <a:lnTo>
                        <a:pt x="139" y="118"/>
                      </a:lnTo>
                      <a:lnTo>
                        <a:pt x="144" y="90"/>
                      </a:lnTo>
                      <a:lnTo>
                        <a:pt x="169" y="99"/>
                      </a:lnTo>
                      <a:lnTo>
                        <a:pt x="176" y="118"/>
                      </a:lnTo>
                      <a:lnTo>
                        <a:pt x="196" y="134"/>
                      </a:lnTo>
                      <a:lnTo>
                        <a:pt x="238" y="119"/>
                      </a:lnTo>
                      <a:lnTo>
                        <a:pt x="266" y="97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257960" y="1971720"/>
                  <a:ext cx="66060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4" name=""/>
            <p:cNvGrpSpPr/>
            <p:nvPr/>
          </p:nvGrpSpPr>
          <p:grpSpPr>
            <a:xfrm>
              <a:off x="6280200" y="3044880"/>
              <a:ext cx="982440" cy="1289160"/>
              <a:chOff x="6280200" y="3044880"/>
              <a:chExt cx="982440" cy="128916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6280200" y="3094200"/>
                <a:ext cx="930240" cy="1239840"/>
                <a:chOff x="6280200" y="3094200"/>
                <a:chExt cx="930240" cy="1239840"/>
              </a:xfrm>
            </p:grpSpPr>
            <p:grpSp>
              <p:nvGrpSpPr>
                <p:cNvPr id="936" name=""/>
                <p:cNvGrpSpPr/>
                <p:nvPr/>
              </p:nvGrpSpPr>
              <p:grpSpPr>
                <a:xfrm>
                  <a:off x="6384960" y="3960720"/>
                  <a:ext cx="803160" cy="373320"/>
                  <a:chOff x="6384960" y="3960720"/>
                  <a:chExt cx="803160" cy="3733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6389640" y="4017960"/>
                    <a:ext cx="789120" cy="3160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388200" y="3960720"/>
                    <a:ext cx="7887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384960" y="41403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630840" y="42847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6789600" y="42958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940440" y="42861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7097760" y="42339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7188120" y="413244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491160" y="4245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573960" y="4010040"/>
                    <a:ext cx="4251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3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4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461280" y="3984480"/>
                    <a:ext cx="660240" cy="260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6280200" y="3846600"/>
                  <a:ext cx="801720" cy="371520"/>
                  <a:chOff x="6280200" y="3846600"/>
                  <a:chExt cx="801720" cy="3715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6283440" y="3903840"/>
                    <a:ext cx="7887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281640" y="3846600"/>
                    <a:ext cx="789120" cy="31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280200" y="402588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526080" y="41688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683400" y="41799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832440" y="417024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991200" y="41194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7081920" y="401652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384960" y="4130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467400" y="389736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3"/>
                        </a:moveTo>
                        <a:lnTo>
                          <a:pt x="84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8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4" y="114"/>
                        </a:lnTo>
                        <a:lnTo>
                          <a:pt x="195" y="131"/>
                        </a:lnTo>
                        <a:lnTo>
                          <a:pt x="238" y="116"/>
                        </a:lnTo>
                        <a:lnTo>
                          <a:pt x="264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9" y="13"/>
                        </a:lnTo>
                        <a:lnTo>
                          <a:pt x="209" y="0"/>
                        </a:lnTo>
                        <a:lnTo>
                          <a:pt x="174" y="4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353280" y="3870360"/>
                    <a:ext cx="6620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6405480" y="3780000"/>
                  <a:ext cx="804960" cy="369720"/>
                  <a:chOff x="6405480" y="3780000"/>
                  <a:chExt cx="804960" cy="3697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6410160" y="3840120"/>
                    <a:ext cx="79092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408720" y="3780000"/>
                    <a:ext cx="78588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405480" y="39607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651720" y="4102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811920" y="411156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958080" y="41022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7118280" y="4052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7210440" y="395136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6510240" y="40640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6593040" y="383076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478560" y="3805200"/>
                    <a:ext cx="6606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6375240" y="3695760"/>
                  <a:ext cx="803520" cy="368280"/>
                  <a:chOff x="6375240" y="3695760"/>
                  <a:chExt cx="803520" cy="36828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6380280" y="3754440"/>
                    <a:ext cx="7887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378480" y="3695760"/>
                    <a:ext cx="789120" cy="3096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375240" y="387504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621480" y="40147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781680" y="4025880"/>
                    <a:ext cx="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931080" y="40165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7088040" y="39672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7178760" y="386712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483240" y="39765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564240" y="3746520"/>
                    <a:ext cx="42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0"/>
                        </a:lnTo>
                        <a:lnTo>
                          <a:pt x="107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7" y="96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451560" y="3718080"/>
                    <a:ext cx="65880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6345360" y="3570120"/>
                  <a:ext cx="804600" cy="370080"/>
                  <a:chOff x="6345360" y="3570120"/>
                  <a:chExt cx="804600" cy="37008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6351480" y="3630600"/>
                    <a:ext cx="78912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348240" y="3570120"/>
                    <a:ext cx="790920" cy="31140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6345360" y="375300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6593040" y="3890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751800" y="390204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900840" y="38926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7061040" y="384480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7149960" y="374184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454800" y="3854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534000" y="3619440"/>
                    <a:ext cx="4273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8" y="122"/>
                        </a:lnTo>
                        <a:lnTo>
                          <a:pt x="138" y="115"/>
                        </a:lnTo>
                        <a:lnTo>
                          <a:pt x="143" y="89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3"/>
                        </a:lnTo>
                        <a:lnTo>
                          <a:pt x="238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40"/>
                        </a:lnTo>
                        <a:lnTo>
                          <a:pt x="170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421320" y="3594240"/>
                    <a:ext cx="6606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6337440" y="3473280"/>
                  <a:ext cx="803160" cy="371520"/>
                  <a:chOff x="6337440" y="3473280"/>
                  <a:chExt cx="803160" cy="37152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>
                    <a:off x="6342120" y="3532320"/>
                    <a:ext cx="788760" cy="3124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40320" y="3473280"/>
                    <a:ext cx="789120" cy="3160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337440" y="365616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583320" y="37972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743880" y="380844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891480" y="37987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7051680" y="37479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7140600" y="36464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445080" y="37576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524640" y="3525840"/>
                    <a:ext cx="4287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6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6"/>
                        </a:lnTo>
                        <a:lnTo>
                          <a:pt x="196" y="132"/>
                        </a:lnTo>
                        <a:lnTo>
                          <a:pt x="238" y="117"/>
                        </a:lnTo>
                        <a:lnTo>
                          <a:pt x="265" y="94"/>
                        </a:lnTo>
                        <a:lnTo>
                          <a:pt x="269" y="62"/>
                        </a:lnTo>
                        <a:lnTo>
                          <a:pt x="243" y="39"/>
                        </a:lnTo>
                        <a:lnTo>
                          <a:pt x="170" y="40"/>
                        </a:lnTo>
                        <a:lnTo>
                          <a:pt x="162" y="20"/>
                        </a:lnTo>
                        <a:lnTo>
                          <a:pt x="186" y="40"/>
                        </a:lnTo>
                        <a:lnTo>
                          <a:pt x="218" y="20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411960" y="349884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6280200" y="3340080"/>
                  <a:ext cx="801720" cy="371520"/>
                  <a:chOff x="6280200" y="3340080"/>
                  <a:chExt cx="801720" cy="3715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6283440" y="3398760"/>
                    <a:ext cx="7887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281640" y="3340080"/>
                    <a:ext cx="789120" cy="3128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280200" y="352116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526080" y="36622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683400" y="36752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6832440" y="3665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6991200" y="36147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7081920" y="35114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6384960" y="36241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467400" y="339084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8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8" y="117"/>
                        </a:lnTo>
                        <a:lnTo>
                          <a:pt x="264" y="95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09" y="0"/>
                        </a:lnTo>
                        <a:lnTo>
                          <a:pt x="174" y="6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353280" y="3365640"/>
                    <a:ext cx="6620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0" name=""/>
                <p:cNvGrpSpPr/>
                <p:nvPr/>
              </p:nvGrpSpPr>
              <p:grpSpPr>
                <a:xfrm>
                  <a:off x="6375240" y="3205080"/>
                  <a:ext cx="803520" cy="373320"/>
                  <a:chOff x="6375240" y="3205080"/>
                  <a:chExt cx="803520" cy="37332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6380280" y="3265560"/>
                    <a:ext cx="7887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378480" y="3205080"/>
                    <a:ext cx="78912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6375240" y="338760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6621480" y="352908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6781680" y="354024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6931080" y="3530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7088040" y="34797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7178760" y="33782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6483240" y="34909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564240" y="3257640"/>
                    <a:ext cx="4269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4" y="87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19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451560" y="323208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6384960" y="3094200"/>
                  <a:ext cx="803160" cy="369720"/>
                  <a:chOff x="6384960" y="3094200"/>
                  <a:chExt cx="803160" cy="3697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6389640" y="3149640"/>
                    <a:ext cx="7891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388200" y="3094200"/>
                    <a:ext cx="7887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384960" y="3271680"/>
                    <a:ext cx="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630840" y="34131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789600" y="34275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940440" y="34146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097760" y="3365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188120" y="326376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491160" y="33764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73960" y="3143160"/>
                    <a:ext cx="4251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3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4" y="132"/>
                        </a:lnTo>
                        <a:lnTo>
                          <a:pt x="237" y="116"/>
                        </a:lnTo>
                        <a:lnTo>
                          <a:pt x="264" y="93"/>
                        </a:lnTo>
                        <a:lnTo>
                          <a:pt x="267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9" y="13"/>
                        </a:lnTo>
                        <a:lnTo>
                          <a:pt x="210" y="0"/>
                        </a:lnTo>
                        <a:lnTo>
                          <a:pt x="174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461280" y="3117960"/>
                    <a:ext cx="660240" cy="25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4" name=""/>
              <p:cNvGrpSpPr/>
              <p:nvPr/>
            </p:nvGrpSpPr>
            <p:grpSpPr>
              <a:xfrm>
                <a:off x="6461280" y="3044880"/>
                <a:ext cx="801360" cy="372960"/>
                <a:chOff x="6461280" y="3044880"/>
                <a:chExt cx="801360" cy="37296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465960" y="3103560"/>
                  <a:ext cx="78876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464160" y="3044880"/>
                  <a:ext cx="7891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461280" y="3227400"/>
                  <a:ext cx="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708600" y="33685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867360" y="338148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015320" y="337032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174080" y="3319560"/>
                  <a:ext cx="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262640" y="3218040"/>
                  <a:ext cx="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567480" y="333072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649920" y="3095640"/>
                  <a:ext cx="427320" cy="212760"/>
                </a:xfrm>
                <a:custGeom>
                  <a:avLst/>
                  <a:gdLst/>
                  <a:ahLst/>
                  <a:rect l="l" t="t" r="r" b="b"/>
                  <a:pathLst>
                    <a:path w="269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6" y="112"/>
                      </a:lnTo>
                      <a:lnTo>
                        <a:pt x="108" y="123"/>
                      </a:lnTo>
                      <a:lnTo>
                        <a:pt x="138" y="117"/>
                      </a:lnTo>
                      <a:lnTo>
                        <a:pt x="144" y="89"/>
                      </a:lnTo>
                      <a:lnTo>
                        <a:pt x="168" y="98"/>
                      </a:lnTo>
                      <a:lnTo>
                        <a:pt x="175" y="117"/>
                      </a:lnTo>
                      <a:lnTo>
                        <a:pt x="195" y="133"/>
                      </a:lnTo>
                      <a:lnTo>
                        <a:pt x="237" y="118"/>
                      </a:lnTo>
                      <a:lnTo>
                        <a:pt x="265" y="96"/>
                      </a:lnTo>
                      <a:lnTo>
                        <a:pt x="268" y="62"/>
                      </a:lnTo>
                      <a:lnTo>
                        <a:pt x="243" y="41"/>
                      </a:lnTo>
                      <a:lnTo>
                        <a:pt x="170" y="42"/>
                      </a:lnTo>
                      <a:lnTo>
                        <a:pt x="161" y="20"/>
                      </a:lnTo>
                      <a:lnTo>
                        <a:pt x="185" y="42"/>
                      </a:lnTo>
                      <a:lnTo>
                        <a:pt x="217" y="21"/>
                      </a:lnTo>
                      <a:lnTo>
                        <a:pt x="230" y="14"/>
                      </a:lnTo>
                      <a:lnTo>
                        <a:pt x="211" y="0"/>
                      </a:lnTo>
                      <a:lnTo>
                        <a:pt x="175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535800" y="3070080"/>
                  <a:ext cx="658800" cy="260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6" name=""/>
            <p:cNvGrpSpPr/>
            <p:nvPr/>
          </p:nvGrpSpPr>
          <p:grpSpPr>
            <a:xfrm>
              <a:off x="6345360" y="2011320"/>
              <a:ext cx="984240" cy="1289160"/>
              <a:chOff x="6345360" y="2011320"/>
              <a:chExt cx="984240" cy="128916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6345360" y="2060640"/>
                <a:ext cx="930240" cy="1239840"/>
                <a:chOff x="6345360" y="2060640"/>
                <a:chExt cx="930240" cy="1239840"/>
              </a:xfrm>
            </p:grpSpPr>
            <p:grpSp>
              <p:nvGrpSpPr>
                <p:cNvPr id="1058" name=""/>
                <p:cNvGrpSpPr/>
                <p:nvPr/>
              </p:nvGrpSpPr>
              <p:grpSpPr>
                <a:xfrm>
                  <a:off x="6451560" y="2925720"/>
                  <a:ext cx="801720" cy="374760"/>
                  <a:chOff x="6451560" y="2925720"/>
                  <a:chExt cx="801720" cy="3747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6454800" y="2984400"/>
                    <a:ext cx="790560" cy="3160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453360" y="292572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451560" y="31068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696000" y="32511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6854760" y="3260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005600" y="3252960"/>
                    <a:ext cx="0" cy="29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162920" y="31989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253280" y="309888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6556320" y="320976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6640560" y="2976480"/>
                    <a:ext cx="4237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3"/>
                        </a:lnTo>
                        <a:lnTo>
                          <a:pt x="236" y="117"/>
                        </a:lnTo>
                        <a:lnTo>
                          <a:pt x="263" y="94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5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6526080" y="2951280"/>
                    <a:ext cx="6606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6345360" y="2813040"/>
                  <a:ext cx="801720" cy="371520"/>
                  <a:chOff x="6345360" y="2813040"/>
                  <a:chExt cx="801720" cy="37152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>
                    <a:off x="6350040" y="2870280"/>
                    <a:ext cx="7873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6348240" y="2813040"/>
                    <a:ext cx="78768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6345360" y="29923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6593040" y="31352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6750000" y="31464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6899400" y="31370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7056360" y="30844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7147080" y="298296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6451560" y="309708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534000" y="2863800"/>
                    <a:ext cx="4255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2">
                        <a:moveTo>
                          <a:pt x="147" y="13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7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3" y="114"/>
                        </a:lnTo>
                        <a:lnTo>
                          <a:pt x="195" y="131"/>
                        </a:lnTo>
                        <a:lnTo>
                          <a:pt x="237" y="116"/>
                        </a:lnTo>
                        <a:lnTo>
                          <a:pt x="263" y="93"/>
                        </a:lnTo>
                        <a:lnTo>
                          <a:pt x="267" y="60"/>
                        </a:lnTo>
                        <a:lnTo>
                          <a:pt x="241" y="38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419880" y="2835360"/>
                    <a:ext cx="660240" cy="261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6472080" y="2746440"/>
                  <a:ext cx="803520" cy="368280"/>
                  <a:chOff x="6472080" y="2746440"/>
                  <a:chExt cx="803520" cy="36828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6475320" y="2806560"/>
                    <a:ext cx="790560" cy="30816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6473880" y="2746440"/>
                    <a:ext cx="78732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6472080" y="29257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716880" y="30672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6877080" y="307800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023240" y="30686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183440" y="30193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275600" y="29163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6575400" y="30304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657840" y="2797200"/>
                    <a:ext cx="4273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8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5" y="114"/>
                        </a:lnTo>
                        <a:lnTo>
                          <a:pt x="195" y="131"/>
                        </a:lnTo>
                        <a:lnTo>
                          <a:pt x="237" y="117"/>
                        </a:lnTo>
                        <a:lnTo>
                          <a:pt x="265" y="93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8"/>
                        </a:lnTo>
                        <a:lnTo>
                          <a:pt x="161" y="18"/>
                        </a:lnTo>
                        <a:lnTo>
                          <a:pt x="185" y="38"/>
                        </a:lnTo>
                        <a:lnTo>
                          <a:pt x="217" y="19"/>
                        </a:lnTo>
                        <a:lnTo>
                          <a:pt x="229" y="14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6543720" y="2771640"/>
                    <a:ext cx="66024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6442200" y="2660760"/>
                  <a:ext cx="801720" cy="369720"/>
                  <a:chOff x="6442200" y="2660760"/>
                  <a:chExt cx="801720" cy="3697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6445080" y="2720880"/>
                    <a:ext cx="78912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6443640" y="266076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6442200" y="284148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6686640" y="29811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6846840" y="299232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6996240" y="29829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7153200" y="2933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243920" y="283356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6548400" y="29415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6629400" y="2712960"/>
                    <a:ext cx="4269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1">
                        <a:moveTo>
                          <a:pt x="148" y="13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4" y="90"/>
                        </a:lnTo>
                        <a:lnTo>
                          <a:pt x="31" y="107"/>
                        </a:lnTo>
                        <a:lnTo>
                          <a:pt x="40" y="105"/>
                        </a:lnTo>
                        <a:lnTo>
                          <a:pt x="78" y="128"/>
                        </a:lnTo>
                        <a:lnTo>
                          <a:pt x="86" y="109"/>
                        </a:lnTo>
                        <a:lnTo>
                          <a:pt x="107" y="120"/>
                        </a:lnTo>
                        <a:lnTo>
                          <a:pt x="138" y="113"/>
                        </a:lnTo>
                        <a:lnTo>
                          <a:pt x="144" y="87"/>
                        </a:lnTo>
                        <a:lnTo>
                          <a:pt x="167" y="95"/>
                        </a:lnTo>
                        <a:lnTo>
                          <a:pt x="175" y="113"/>
                        </a:lnTo>
                        <a:lnTo>
                          <a:pt x="195" y="130"/>
                        </a:lnTo>
                        <a:lnTo>
                          <a:pt x="237" y="116"/>
                        </a:lnTo>
                        <a:lnTo>
                          <a:pt x="265" y="92"/>
                        </a:lnTo>
                        <a:lnTo>
                          <a:pt x="268" y="60"/>
                        </a:lnTo>
                        <a:lnTo>
                          <a:pt x="242" y="38"/>
                        </a:lnTo>
                        <a:lnTo>
                          <a:pt x="169" y="39"/>
                        </a:lnTo>
                        <a:lnTo>
                          <a:pt x="161" y="18"/>
                        </a:lnTo>
                        <a:lnTo>
                          <a:pt x="185" y="39"/>
                        </a:lnTo>
                        <a:lnTo>
                          <a:pt x="217" y="20"/>
                        </a:lnTo>
                        <a:lnTo>
                          <a:pt x="230" y="13"/>
                        </a:lnTo>
                        <a:lnTo>
                          <a:pt x="211" y="0"/>
                        </a:lnTo>
                        <a:lnTo>
                          <a:pt x="175" y="4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6516720" y="2684520"/>
                    <a:ext cx="6588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6411960" y="2536920"/>
                  <a:ext cx="803160" cy="369720"/>
                  <a:chOff x="6411960" y="2536920"/>
                  <a:chExt cx="803160" cy="36972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6416640" y="2595600"/>
                    <a:ext cx="789120" cy="3110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413400" y="253692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6411960" y="27194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657840" y="28576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816600" y="28684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966000" y="28591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7126200" y="28098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215120" y="270828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6519960" y="2819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600960" y="2585880"/>
                    <a:ext cx="4251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5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1" y="40"/>
                        </a:lnTo>
                        <a:lnTo>
                          <a:pt x="169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488280" y="256068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6404040" y="2440080"/>
                  <a:ext cx="801720" cy="371520"/>
                  <a:chOff x="6404040" y="2440080"/>
                  <a:chExt cx="801720" cy="37152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6407280" y="2498760"/>
                    <a:ext cx="7887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405480" y="2440080"/>
                    <a:ext cx="78912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404040" y="262260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648480" y="27637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6808680" y="277344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6956280" y="2765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7116840" y="27129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205760" y="261288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6510240" y="2724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591240" y="249228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78560" y="2463840"/>
                    <a:ext cx="657360" cy="261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6345360" y="2305080"/>
                  <a:ext cx="801720" cy="372960"/>
                  <a:chOff x="6345360" y="2305080"/>
                  <a:chExt cx="801720" cy="3729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6350040" y="2365200"/>
                    <a:ext cx="7873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348240" y="2305080"/>
                    <a:ext cx="78768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345360" y="24876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6593040" y="26290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6750000" y="2639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6899400" y="26319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7056360" y="25797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7147080" y="24782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6451560" y="25909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534000" y="2357280"/>
                    <a:ext cx="4255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5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6419880" y="2330280"/>
                    <a:ext cx="660240" cy="2620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442200" y="2171880"/>
                  <a:ext cx="801720" cy="372960"/>
                  <a:chOff x="6442200" y="2171880"/>
                  <a:chExt cx="801720" cy="3729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6445080" y="223200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443640" y="217188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442200" y="23544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686640" y="24955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6846840" y="25066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6996240" y="24969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153200" y="24462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243920" y="234468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6548400" y="24573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629400" y="222408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4" y="87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19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6516720" y="2197080"/>
                    <a:ext cx="65880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6451560" y="2060640"/>
                  <a:ext cx="801720" cy="369720"/>
                  <a:chOff x="6451560" y="2060640"/>
                  <a:chExt cx="801720" cy="36972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6454800" y="2116080"/>
                    <a:ext cx="7905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6453360" y="206064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451560" y="22384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6696000" y="2379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6854760" y="23922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005600" y="23814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162920" y="233028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253280" y="22305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6556320" y="23432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6640560" y="2109960"/>
                    <a:ext cx="4237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2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6" y="122"/>
                        </a:lnTo>
                        <a:lnTo>
                          <a:pt x="137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3" y="115"/>
                        </a:lnTo>
                        <a:lnTo>
                          <a:pt x="194" y="132"/>
                        </a:lnTo>
                        <a:lnTo>
                          <a:pt x="236" y="116"/>
                        </a:lnTo>
                        <a:lnTo>
                          <a:pt x="263" y="93"/>
                        </a:lnTo>
                        <a:lnTo>
                          <a:pt x="266" y="61"/>
                        </a:lnTo>
                        <a:lnTo>
                          <a:pt x="241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6526080" y="2082960"/>
                    <a:ext cx="66060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6" name=""/>
              <p:cNvGrpSpPr/>
              <p:nvPr/>
            </p:nvGrpSpPr>
            <p:grpSpPr>
              <a:xfrm>
                <a:off x="6526080" y="2011320"/>
                <a:ext cx="803520" cy="372960"/>
                <a:chOff x="6526080" y="2011320"/>
                <a:chExt cx="803520" cy="3729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6531120" y="2070000"/>
                  <a:ext cx="78876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531120" y="2011320"/>
                  <a:ext cx="7873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6526080" y="219384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773760" y="233532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6932520" y="23479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081920" y="23367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240680" y="228600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329600" y="2184480"/>
                  <a:ext cx="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634080" y="22953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715080" y="2060640"/>
                  <a:ext cx="428760" cy="212760"/>
                </a:xfrm>
                <a:custGeom>
                  <a:avLst/>
                  <a:gdLst/>
                  <a:ahLst/>
                  <a:rect l="l" t="t" r="r" b="b"/>
                  <a:pathLst>
                    <a:path w="270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7" y="112"/>
                      </a:lnTo>
                      <a:lnTo>
                        <a:pt x="108" y="123"/>
                      </a:lnTo>
                      <a:lnTo>
                        <a:pt x="139" y="117"/>
                      </a:lnTo>
                      <a:lnTo>
                        <a:pt x="144" y="89"/>
                      </a:lnTo>
                      <a:lnTo>
                        <a:pt x="169" y="98"/>
                      </a:lnTo>
                      <a:lnTo>
                        <a:pt x="176" y="117"/>
                      </a:lnTo>
                      <a:lnTo>
                        <a:pt x="196" y="133"/>
                      </a:lnTo>
                      <a:lnTo>
                        <a:pt x="238" y="118"/>
                      </a:lnTo>
                      <a:lnTo>
                        <a:pt x="266" y="96"/>
                      </a:lnTo>
                      <a:lnTo>
                        <a:pt x="269" y="62"/>
                      </a:lnTo>
                      <a:lnTo>
                        <a:pt x="244" y="41"/>
                      </a:lnTo>
                      <a:lnTo>
                        <a:pt x="171" y="42"/>
                      </a:lnTo>
                      <a:lnTo>
                        <a:pt x="162" y="20"/>
                      </a:lnTo>
                      <a:lnTo>
                        <a:pt x="186" y="42"/>
                      </a:lnTo>
                      <a:lnTo>
                        <a:pt x="218" y="21"/>
                      </a:lnTo>
                      <a:lnTo>
                        <a:pt x="231" y="14"/>
                      </a:lnTo>
                      <a:lnTo>
                        <a:pt x="211" y="0"/>
                      </a:lnTo>
                      <a:lnTo>
                        <a:pt x="176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600960" y="2036880"/>
                  <a:ext cx="66024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"/>
            <p:cNvGrpSpPr/>
            <p:nvPr/>
          </p:nvGrpSpPr>
          <p:grpSpPr>
            <a:xfrm>
              <a:off x="7726320" y="2011320"/>
              <a:ext cx="982800" cy="1289160"/>
              <a:chOff x="7726320" y="2011320"/>
              <a:chExt cx="982800" cy="128916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7726320" y="2060640"/>
                <a:ext cx="928800" cy="1239840"/>
                <a:chOff x="7726320" y="2060640"/>
                <a:chExt cx="928800" cy="1239840"/>
              </a:xfrm>
            </p:grpSpPr>
            <p:grpSp>
              <p:nvGrpSpPr>
                <p:cNvPr id="1180" name=""/>
                <p:cNvGrpSpPr/>
                <p:nvPr/>
              </p:nvGrpSpPr>
              <p:grpSpPr>
                <a:xfrm>
                  <a:off x="7831080" y="2925720"/>
                  <a:ext cx="803160" cy="374760"/>
                  <a:chOff x="7831080" y="2925720"/>
                  <a:chExt cx="803160" cy="37476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7834320" y="2984400"/>
                    <a:ext cx="790560" cy="3160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834320" y="2925720"/>
                    <a:ext cx="78912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831080" y="31068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8077320" y="325116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8236080" y="3260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8386920" y="3252960"/>
                    <a:ext cx="0" cy="29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8543880" y="31989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8634240" y="3098880"/>
                    <a:ext cx="0" cy="41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937640" y="320976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8020080" y="2976480"/>
                    <a:ext cx="4255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4">
                        <a:moveTo>
                          <a:pt x="148" y="15"/>
                        </a:moveTo>
                        <a:lnTo>
                          <a:pt x="83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3" y="92"/>
                        </a:lnTo>
                        <a:lnTo>
                          <a:pt x="30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4" y="112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9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4" y="133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7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9" y="15"/>
                        </a:lnTo>
                        <a:lnTo>
                          <a:pt x="210" y="0"/>
                        </a:lnTo>
                        <a:lnTo>
                          <a:pt x="174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905600" y="2951280"/>
                    <a:ext cx="6620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2" name=""/>
                <p:cNvGrpSpPr/>
                <p:nvPr/>
              </p:nvGrpSpPr>
              <p:grpSpPr>
                <a:xfrm>
                  <a:off x="7726320" y="2813040"/>
                  <a:ext cx="800280" cy="371520"/>
                  <a:chOff x="7726320" y="2813040"/>
                  <a:chExt cx="800280" cy="37152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7729560" y="2870280"/>
                    <a:ext cx="78912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728120" y="2813040"/>
                    <a:ext cx="7887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726320" y="299232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972560" y="31352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8129520" y="31464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8278920" y="31370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8435880" y="308448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8526600" y="298296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831080" y="309708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913520" y="2863800"/>
                    <a:ext cx="4255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2">
                        <a:moveTo>
                          <a:pt x="147" y="13"/>
                        </a:moveTo>
                        <a:lnTo>
                          <a:pt x="83" y="7"/>
                        </a:lnTo>
                        <a:lnTo>
                          <a:pt x="32" y="18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4" y="91"/>
                        </a:lnTo>
                        <a:lnTo>
                          <a:pt x="31" y="108"/>
                        </a:lnTo>
                        <a:lnTo>
                          <a:pt x="41" y="105"/>
                        </a:lnTo>
                        <a:lnTo>
                          <a:pt x="78" y="129"/>
                        </a:lnTo>
                        <a:lnTo>
                          <a:pt x="85" y="110"/>
                        </a:lnTo>
                        <a:lnTo>
                          <a:pt x="107" y="121"/>
                        </a:lnTo>
                        <a:lnTo>
                          <a:pt x="137" y="114"/>
                        </a:lnTo>
                        <a:lnTo>
                          <a:pt x="143" y="88"/>
                        </a:lnTo>
                        <a:lnTo>
                          <a:pt x="167" y="96"/>
                        </a:lnTo>
                        <a:lnTo>
                          <a:pt x="173" y="114"/>
                        </a:lnTo>
                        <a:lnTo>
                          <a:pt x="195" y="131"/>
                        </a:lnTo>
                        <a:lnTo>
                          <a:pt x="237" y="116"/>
                        </a:lnTo>
                        <a:lnTo>
                          <a:pt x="263" y="93"/>
                        </a:lnTo>
                        <a:lnTo>
                          <a:pt x="267" y="60"/>
                        </a:lnTo>
                        <a:lnTo>
                          <a:pt x="241" y="38"/>
                        </a:lnTo>
                        <a:lnTo>
                          <a:pt x="168" y="39"/>
                        </a:lnTo>
                        <a:lnTo>
                          <a:pt x="160" y="18"/>
                        </a:lnTo>
                        <a:lnTo>
                          <a:pt x="184" y="39"/>
                        </a:lnTo>
                        <a:lnTo>
                          <a:pt x="217" y="19"/>
                        </a:lnTo>
                        <a:lnTo>
                          <a:pt x="228" y="13"/>
                        </a:lnTo>
                        <a:lnTo>
                          <a:pt x="209" y="0"/>
                        </a:lnTo>
                        <a:lnTo>
                          <a:pt x="173" y="4"/>
                        </a:lnTo>
                        <a:lnTo>
                          <a:pt x="147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799400" y="2835360"/>
                    <a:ext cx="660240" cy="261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4" name=""/>
                <p:cNvGrpSpPr/>
                <p:nvPr/>
              </p:nvGrpSpPr>
              <p:grpSpPr>
                <a:xfrm>
                  <a:off x="7851600" y="2746440"/>
                  <a:ext cx="803520" cy="368280"/>
                  <a:chOff x="7851600" y="2746440"/>
                  <a:chExt cx="803520" cy="3682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7854840" y="2806560"/>
                    <a:ext cx="792360" cy="30816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854840" y="2746440"/>
                    <a:ext cx="78588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851600" y="2925720"/>
                    <a:ext cx="0" cy="28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8097840" y="30672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8256600" y="307800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8404200" y="306864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8564400" y="30193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8655120" y="29163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7956720" y="303048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8037360" y="2797200"/>
                    <a:ext cx="4287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32">
                        <a:moveTo>
                          <a:pt x="148" y="14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30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1"/>
                        </a:lnTo>
                        <a:lnTo>
                          <a:pt x="108" y="121"/>
                        </a:lnTo>
                        <a:lnTo>
                          <a:pt x="139" y="114"/>
                        </a:lnTo>
                        <a:lnTo>
                          <a:pt x="144" y="88"/>
                        </a:lnTo>
                        <a:lnTo>
                          <a:pt x="168" y="97"/>
                        </a:lnTo>
                        <a:lnTo>
                          <a:pt x="176" y="114"/>
                        </a:lnTo>
                        <a:lnTo>
                          <a:pt x="196" y="131"/>
                        </a:lnTo>
                        <a:lnTo>
                          <a:pt x="238" y="117"/>
                        </a:lnTo>
                        <a:lnTo>
                          <a:pt x="266" y="93"/>
                        </a:lnTo>
                        <a:lnTo>
                          <a:pt x="269" y="60"/>
                        </a:lnTo>
                        <a:lnTo>
                          <a:pt x="243" y="38"/>
                        </a:lnTo>
                        <a:lnTo>
                          <a:pt x="170" y="38"/>
                        </a:lnTo>
                        <a:lnTo>
                          <a:pt x="162" y="18"/>
                        </a:lnTo>
                        <a:lnTo>
                          <a:pt x="186" y="38"/>
                        </a:lnTo>
                        <a:lnTo>
                          <a:pt x="218" y="19"/>
                        </a:lnTo>
                        <a:lnTo>
                          <a:pt x="230" y="14"/>
                        </a:lnTo>
                        <a:lnTo>
                          <a:pt x="211" y="0"/>
                        </a:lnTo>
                        <a:lnTo>
                          <a:pt x="176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7924680" y="2771640"/>
                    <a:ext cx="66060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7821720" y="2660760"/>
                  <a:ext cx="803160" cy="369720"/>
                  <a:chOff x="7821720" y="2660760"/>
                  <a:chExt cx="803160" cy="36972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7824960" y="2720880"/>
                    <a:ext cx="790560" cy="30960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7824960" y="2660760"/>
                    <a:ext cx="7887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7821720" y="2841480"/>
                    <a:ext cx="0" cy="25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8067600" y="29811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8226360" y="299232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8375760" y="29829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8534520" y="293364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8624880" y="2833560"/>
                    <a:ext cx="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7927920" y="294156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8008920" y="2712960"/>
                    <a:ext cx="4287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31">
                        <a:moveTo>
                          <a:pt x="149" y="13"/>
                        </a:moveTo>
                        <a:lnTo>
                          <a:pt x="85" y="7"/>
                        </a:lnTo>
                        <a:lnTo>
                          <a:pt x="31" y="18"/>
                        </a:lnTo>
                        <a:lnTo>
                          <a:pt x="4" y="41"/>
                        </a:lnTo>
                        <a:lnTo>
                          <a:pt x="0" y="67"/>
                        </a:lnTo>
                        <a:lnTo>
                          <a:pt x="14" y="90"/>
                        </a:lnTo>
                        <a:lnTo>
                          <a:pt x="31" y="107"/>
                        </a:lnTo>
                        <a:lnTo>
                          <a:pt x="40" y="105"/>
                        </a:lnTo>
                        <a:lnTo>
                          <a:pt x="78" y="128"/>
                        </a:lnTo>
                        <a:lnTo>
                          <a:pt x="86" y="109"/>
                        </a:lnTo>
                        <a:lnTo>
                          <a:pt x="107" y="120"/>
                        </a:lnTo>
                        <a:lnTo>
                          <a:pt x="139" y="113"/>
                        </a:lnTo>
                        <a:lnTo>
                          <a:pt x="144" y="87"/>
                        </a:lnTo>
                        <a:lnTo>
                          <a:pt x="168" y="95"/>
                        </a:lnTo>
                        <a:lnTo>
                          <a:pt x="176" y="113"/>
                        </a:lnTo>
                        <a:lnTo>
                          <a:pt x="196" y="130"/>
                        </a:lnTo>
                        <a:lnTo>
                          <a:pt x="238" y="116"/>
                        </a:lnTo>
                        <a:lnTo>
                          <a:pt x="266" y="92"/>
                        </a:lnTo>
                        <a:lnTo>
                          <a:pt x="269" y="60"/>
                        </a:lnTo>
                        <a:lnTo>
                          <a:pt x="243" y="38"/>
                        </a:lnTo>
                        <a:lnTo>
                          <a:pt x="170" y="39"/>
                        </a:lnTo>
                        <a:lnTo>
                          <a:pt x="162" y="18"/>
                        </a:lnTo>
                        <a:lnTo>
                          <a:pt x="186" y="39"/>
                        </a:lnTo>
                        <a:lnTo>
                          <a:pt x="218" y="20"/>
                        </a:lnTo>
                        <a:lnTo>
                          <a:pt x="231" y="13"/>
                        </a:lnTo>
                        <a:lnTo>
                          <a:pt x="211" y="0"/>
                        </a:lnTo>
                        <a:lnTo>
                          <a:pt x="176" y="4"/>
                        </a:lnTo>
                        <a:lnTo>
                          <a:pt x="149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7896240" y="2684520"/>
                    <a:ext cx="660240" cy="258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7791480" y="2536920"/>
                  <a:ext cx="803160" cy="369720"/>
                  <a:chOff x="7791480" y="2536920"/>
                  <a:chExt cx="803160" cy="369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7796160" y="2595600"/>
                    <a:ext cx="790560" cy="3110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7794720" y="2536920"/>
                    <a:ext cx="79056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791480" y="27194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8037360" y="28576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8196120" y="28684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8346960" y="28591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8505720" y="28098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8594640" y="2708280"/>
                    <a:ext cx="0" cy="4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7899480" y="2819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980480" y="2585880"/>
                    <a:ext cx="4269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4">
                        <a:moveTo>
                          <a:pt x="148" y="15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5" y="112"/>
                        </a:lnTo>
                        <a:lnTo>
                          <a:pt x="108" y="122"/>
                        </a:lnTo>
                        <a:lnTo>
                          <a:pt x="138" y="115"/>
                        </a:lnTo>
                        <a:lnTo>
                          <a:pt x="143" y="89"/>
                        </a:lnTo>
                        <a:lnTo>
                          <a:pt x="167" y="97"/>
                        </a:lnTo>
                        <a:lnTo>
                          <a:pt x="175" y="115"/>
                        </a:lnTo>
                        <a:lnTo>
                          <a:pt x="195" y="133"/>
                        </a:lnTo>
                        <a:lnTo>
                          <a:pt x="238" y="117"/>
                        </a:lnTo>
                        <a:lnTo>
                          <a:pt x="265" y="94"/>
                        </a:lnTo>
                        <a:lnTo>
                          <a:pt x="268" y="61"/>
                        </a:lnTo>
                        <a:lnTo>
                          <a:pt x="242" y="40"/>
                        </a:lnTo>
                        <a:lnTo>
                          <a:pt x="170" y="40"/>
                        </a:lnTo>
                        <a:lnTo>
                          <a:pt x="160" y="20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30" y="15"/>
                        </a:lnTo>
                        <a:lnTo>
                          <a:pt x="211" y="0"/>
                        </a:lnTo>
                        <a:lnTo>
                          <a:pt x="175" y="6"/>
                        </a:lnTo>
                        <a:lnTo>
                          <a:pt x="148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7867800" y="256068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7783560" y="2440080"/>
                  <a:ext cx="801720" cy="371520"/>
                  <a:chOff x="7783560" y="2440080"/>
                  <a:chExt cx="801720" cy="37152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7786800" y="2498760"/>
                    <a:ext cx="7905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7785000" y="2440080"/>
                    <a:ext cx="7905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7783560" y="262260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8028000" y="27637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8188200" y="2773440"/>
                    <a:ext cx="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8335800" y="2765520"/>
                    <a:ext cx="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8496360" y="27129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8585280" y="261288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7889760" y="272412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7970760" y="2492280"/>
                    <a:ext cx="4269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33">
                        <a:moveTo>
                          <a:pt x="148" y="14"/>
                        </a:moveTo>
                        <a:lnTo>
                          <a:pt x="84" y="8"/>
                        </a:lnTo>
                        <a:lnTo>
                          <a:pt x="32" y="20"/>
                        </a:lnTo>
                        <a:lnTo>
                          <a:pt x="4" y="42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8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8" y="97"/>
                        </a:lnTo>
                        <a:lnTo>
                          <a:pt x="174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4" y="94"/>
                        </a:lnTo>
                        <a:lnTo>
                          <a:pt x="268" y="62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61" y="20"/>
                        </a:lnTo>
                        <a:lnTo>
                          <a:pt x="185" y="40"/>
                        </a:lnTo>
                        <a:lnTo>
                          <a:pt x="217" y="20"/>
                        </a:lnTo>
                        <a:lnTo>
                          <a:pt x="229" y="14"/>
                        </a:lnTo>
                        <a:lnTo>
                          <a:pt x="210" y="0"/>
                        </a:lnTo>
                        <a:lnTo>
                          <a:pt x="174" y="4"/>
                        </a:lnTo>
                        <a:lnTo>
                          <a:pt x="148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7858080" y="2463840"/>
                    <a:ext cx="658800" cy="261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7726320" y="2305080"/>
                  <a:ext cx="800280" cy="372960"/>
                  <a:chOff x="7726320" y="2305080"/>
                  <a:chExt cx="800280" cy="37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7729560" y="2365200"/>
                    <a:ext cx="78912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728120" y="2305080"/>
                    <a:ext cx="7887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7726320" y="24876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7972560" y="26290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8129520" y="26398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8278920" y="26319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8435880" y="257976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8526600" y="24782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7831080" y="259092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7913520" y="2357280"/>
                    <a:ext cx="4255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7" y="14"/>
                        </a:moveTo>
                        <a:lnTo>
                          <a:pt x="83" y="8"/>
                        </a:lnTo>
                        <a:lnTo>
                          <a:pt x="32" y="19"/>
                        </a:lnTo>
                        <a:lnTo>
                          <a:pt x="4" y="41"/>
                        </a:lnTo>
                        <a:lnTo>
                          <a:pt x="0" y="69"/>
                        </a:lnTo>
                        <a:lnTo>
                          <a:pt x="14" y="93"/>
                        </a:lnTo>
                        <a:lnTo>
                          <a:pt x="31" y="108"/>
                        </a:lnTo>
                        <a:lnTo>
                          <a:pt x="41" y="107"/>
                        </a:lnTo>
                        <a:lnTo>
                          <a:pt x="78" y="130"/>
                        </a:lnTo>
                        <a:lnTo>
                          <a:pt x="85" y="111"/>
                        </a:lnTo>
                        <a:lnTo>
                          <a:pt x="107" y="122"/>
                        </a:lnTo>
                        <a:lnTo>
                          <a:pt x="137" y="116"/>
                        </a:lnTo>
                        <a:lnTo>
                          <a:pt x="143" y="88"/>
                        </a:lnTo>
                        <a:lnTo>
                          <a:pt x="167" y="97"/>
                        </a:lnTo>
                        <a:lnTo>
                          <a:pt x="173" y="116"/>
                        </a:lnTo>
                        <a:lnTo>
                          <a:pt x="195" y="132"/>
                        </a:lnTo>
                        <a:lnTo>
                          <a:pt x="237" y="117"/>
                        </a:lnTo>
                        <a:lnTo>
                          <a:pt x="263" y="95"/>
                        </a:lnTo>
                        <a:lnTo>
                          <a:pt x="267" y="61"/>
                        </a:lnTo>
                        <a:lnTo>
                          <a:pt x="241" y="39"/>
                        </a:lnTo>
                        <a:lnTo>
                          <a:pt x="168" y="40"/>
                        </a:lnTo>
                        <a:lnTo>
                          <a:pt x="160" y="19"/>
                        </a:lnTo>
                        <a:lnTo>
                          <a:pt x="184" y="40"/>
                        </a:lnTo>
                        <a:lnTo>
                          <a:pt x="217" y="20"/>
                        </a:lnTo>
                        <a:lnTo>
                          <a:pt x="228" y="14"/>
                        </a:lnTo>
                        <a:lnTo>
                          <a:pt x="209" y="0"/>
                        </a:lnTo>
                        <a:lnTo>
                          <a:pt x="173" y="6"/>
                        </a:lnTo>
                        <a:lnTo>
                          <a:pt x="147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7799400" y="2330280"/>
                    <a:ext cx="660240" cy="2620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7821720" y="2171880"/>
                  <a:ext cx="803160" cy="372960"/>
                  <a:chOff x="7821720" y="2171880"/>
                  <a:chExt cx="803160" cy="37296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7824960" y="2232000"/>
                    <a:ext cx="790560" cy="31284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7824960" y="2171880"/>
                    <a:ext cx="788760" cy="3142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7821720" y="235440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8067600" y="249552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8226360" y="250668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8375760" y="249696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8534520" y="244620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8624880" y="234468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7927920" y="2457360"/>
                    <a:ext cx="0" cy="3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8008920" y="2224080"/>
                    <a:ext cx="4287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33">
                        <a:moveTo>
                          <a:pt x="149" y="15"/>
                        </a:moveTo>
                        <a:lnTo>
                          <a:pt x="85" y="8"/>
                        </a:lnTo>
                        <a:lnTo>
                          <a:pt x="31" y="19"/>
                        </a:lnTo>
                        <a:lnTo>
                          <a:pt x="4" y="41"/>
                        </a:lnTo>
                        <a:lnTo>
                          <a:pt x="0" y="68"/>
                        </a:lnTo>
                        <a:lnTo>
                          <a:pt x="14" y="92"/>
                        </a:lnTo>
                        <a:lnTo>
                          <a:pt x="31" y="107"/>
                        </a:lnTo>
                        <a:lnTo>
                          <a:pt x="40" y="106"/>
                        </a:lnTo>
                        <a:lnTo>
                          <a:pt x="78" y="129"/>
                        </a:lnTo>
                        <a:lnTo>
                          <a:pt x="86" y="111"/>
                        </a:lnTo>
                        <a:lnTo>
                          <a:pt x="107" y="122"/>
                        </a:lnTo>
                        <a:lnTo>
                          <a:pt x="139" y="115"/>
                        </a:lnTo>
                        <a:lnTo>
                          <a:pt x="144" y="87"/>
                        </a:lnTo>
                        <a:lnTo>
                          <a:pt x="168" y="97"/>
                        </a:lnTo>
                        <a:lnTo>
                          <a:pt x="176" y="115"/>
                        </a:lnTo>
                        <a:lnTo>
                          <a:pt x="196" y="132"/>
                        </a:lnTo>
                        <a:lnTo>
                          <a:pt x="238" y="117"/>
                        </a:lnTo>
                        <a:lnTo>
                          <a:pt x="266" y="94"/>
                        </a:lnTo>
                        <a:lnTo>
                          <a:pt x="269" y="61"/>
                        </a:lnTo>
                        <a:lnTo>
                          <a:pt x="243" y="39"/>
                        </a:lnTo>
                        <a:lnTo>
                          <a:pt x="170" y="40"/>
                        </a:lnTo>
                        <a:lnTo>
                          <a:pt x="162" y="19"/>
                        </a:lnTo>
                        <a:lnTo>
                          <a:pt x="186" y="40"/>
                        </a:lnTo>
                        <a:lnTo>
                          <a:pt x="218" y="20"/>
                        </a:lnTo>
                        <a:lnTo>
                          <a:pt x="231" y="15"/>
                        </a:lnTo>
                        <a:lnTo>
                          <a:pt x="211" y="0"/>
                        </a:lnTo>
                        <a:lnTo>
                          <a:pt x="176" y="6"/>
                        </a:lnTo>
                        <a:lnTo>
                          <a:pt x="149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7896240" y="2197080"/>
                    <a:ext cx="660240" cy="260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7831080" y="2060640"/>
                  <a:ext cx="803160" cy="369720"/>
                  <a:chOff x="7831080" y="2060640"/>
                  <a:chExt cx="803160" cy="36972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7834320" y="2116080"/>
                    <a:ext cx="790560" cy="314280"/>
                  </a:xfrm>
                  <a:prstGeom prst="ellipse">
                    <a:avLst/>
                  </a:prstGeom>
                  <a:solidFill>
                    <a:srgbClr val="bf7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7834320" y="2060640"/>
                    <a:ext cx="789120" cy="31104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7831080" y="2238480"/>
                    <a:ext cx="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8077320" y="23796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8236080" y="2392200"/>
                    <a:ext cx="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8386920" y="238140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8543880" y="2330280"/>
                    <a:ext cx="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8634240" y="22305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937640" y="2343240"/>
                    <a:ext cx="0" cy="3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8020080" y="2109960"/>
                    <a:ext cx="4255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33">
                        <a:moveTo>
                          <a:pt x="148" y="13"/>
                        </a:moveTo>
                        <a:lnTo>
                          <a:pt x="83" y="7"/>
                        </a:lnTo>
                        <a:lnTo>
                          <a:pt x="31" y="19"/>
                        </a:lnTo>
                        <a:lnTo>
                          <a:pt x="4" y="40"/>
                        </a:lnTo>
                        <a:lnTo>
                          <a:pt x="0" y="67"/>
                        </a:lnTo>
                        <a:lnTo>
                          <a:pt x="13" y="92"/>
                        </a:lnTo>
                        <a:lnTo>
                          <a:pt x="30" y="108"/>
                        </a:lnTo>
                        <a:lnTo>
                          <a:pt x="40" y="105"/>
                        </a:lnTo>
                        <a:lnTo>
                          <a:pt x="78" y="129"/>
                        </a:lnTo>
                        <a:lnTo>
                          <a:pt x="84" y="111"/>
                        </a:lnTo>
                        <a:lnTo>
                          <a:pt x="107" y="122"/>
                        </a:lnTo>
                        <a:lnTo>
                          <a:pt x="138" y="115"/>
                        </a:lnTo>
                        <a:lnTo>
                          <a:pt x="142" y="88"/>
                        </a:lnTo>
                        <a:lnTo>
                          <a:pt x="167" y="97"/>
                        </a:lnTo>
                        <a:lnTo>
                          <a:pt x="174" y="115"/>
                        </a:lnTo>
                        <a:lnTo>
                          <a:pt x="194" y="132"/>
                        </a:lnTo>
                        <a:lnTo>
                          <a:pt x="237" y="116"/>
                        </a:lnTo>
                        <a:lnTo>
                          <a:pt x="264" y="93"/>
                        </a:lnTo>
                        <a:lnTo>
                          <a:pt x="267" y="61"/>
                        </a:lnTo>
                        <a:lnTo>
                          <a:pt x="242" y="39"/>
                        </a:lnTo>
                        <a:lnTo>
                          <a:pt x="169" y="40"/>
                        </a:lnTo>
                        <a:lnTo>
                          <a:pt x="159" y="19"/>
                        </a:lnTo>
                        <a:lnTo>
                          <a:pt x="184" y="40"/>
                        </a:lnTo>
                        <a:lnTo>
                          <a:pt x="216" y="20"/>
                        </a:lnTo>
                        <a:lnTo>
                          <a:pt x="229" y="13"/>
                        </a:lnTo>
                        <a:lnTo>
                          <a:pt x="210" y="0"/>
                        </a:lnTo>
                        <a:lnTo>
                          <a:pt x="174" y="5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7905600" y="2082960"/>
                    <a:ext cx="662040" cy="25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8" name=""/>
              <p:cNvGrpSpPr/>
              <p:nvPr/>
            </p:nvGrpSpPr>
            <p:grpSpPr>
              <a:xfrm>
                <a:off x="7907400" y="2011320"/>
                <a:ext cx="801720" cy="372960"/>
                <a:chOff x="7907400" y="2011320"/>
                <a:chExt cx="801720" cy="3729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7912080" y="2070000"/>
                  <a:ext cx="787320" cy="314280"/>
                </a:xfrm>
                <a:prstGeom prst="ellipse">
                  <a:avLst/>
                </a:prstGeom>
                <a:solidFill>
                  <a:srgbClr val="bf7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910640" y="2011320"/>
                  <a:ext cx="787320" cy="314280"/>
                </a:xfrm>
                <a:prstGeom prst="ellipse">
                  <a:avLst/>
                </a:prstGeom>
                <a:solidFill>
                  <a:srgbClr val="ff9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907400" y="2193840"/>
                  <a:ext cx="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155080" y="2335320"/>
                  <a:ext cx="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313840" y="234792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461440" y="2336760"/>
                  <a:ext cx="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620200" y="228600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709120" y="2184480"/>
                  <a:ext cx="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013600" y="2295360"/>
                  <a:ext cx="0" cy="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096400" y="2060640"/>
                  <a:ext cx="426960" cy="212760"/>
                </a:xfrm>
                <a:custGeom>
                  <a:avLst/>
                  <a:gdLst/>
                  <a:ahLst/>
                  <a:rect l="l" t="t" r="r" b="b"/>
                  <a:pathLst>
                    <a:path w="269" h="134">
                      <a:moveTo>
                        <a:pt x="149" y="14"/>
                      </a:moveTo>
                      <a:lnTo>
                        <a:pt x="85" y="8"/>
                      </a:lnTo>
                      <a:lnTo>
                        <a:pt x="31" y="20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14" y="94"/>
                      </a:lnTo>
                      <a:lnTo>
                        <a:pt x="31" y="109"/>
                      </a:lnTo>
                      <a:lnTo>
                        <a:pt x="41" y="108"/>
                      </a:lnTo>
                      <a:lnTo>
                        <a:pt x="79" y="130"/>
                      </a:lnTo>
                      <a:lnTo>
                        <a:pt x="86" y="112"/>
                      </a:lnTo>
                      <a:lnTo>
                        <a:pt x="108" y="123"/>
                      </a:lnTo>
                      <a:lnTo>
                        <a:pt x="138" y="117"/>
                      </a:lnTo>
                      <a:lnTo>
                        <a:pt x="144" y="89"/>
                      </a:lnTo>
                      <a:lnTo>
                        <a:pt x="168" y="98"/>
                      </a:lnTo>
                      <a:lnTo>
                        <a:pt x="175" y="117"/>
                      </a:lnTo>
                      <a:lnTo>
                        <a:pt x="195" y="133"/>
                      </a:lnTo>
                      <a:lnTo>
                        <a:pt x="237" y="118"/>
                      </a:lnTo>
                      <a:lnTo>
                        <a:pt x="265" y="96"/>
                      </a:lnTo>
                      <a:lnTo>
                        <a:pt x="268" y="62"/>
                      </a:lnTo>
                      <a:lnTo>
                        <a:pt x="243" y="41"/>
                      </a:lnTo>
                      <a:lnTo>
                        <a:pt x="170" y="42"/>
                      </a:lnTo>
                      <a:lnTo>
                        <a:pt x="161" y="20"/>
                      </a:lnTo>
                      <a:lnTo>
                        <a:pt x="185" y="42"/>
                      </a:lnTo>
                      <a:lnTo>
                        <a:pt x="217" y="21"/>
                      </a:lnTo>
                      <a:lnTo>
                        <a:pt x="230" y="14"/>
                      </a:lnTo>
                      <a:lnTo>
                        <a:pt x="211" y="0"/>
                      </a:lnTo>
                      <a:lnTo>
                        <a:pt x="175" y="6"/>
                      </a:lnTo>
                      <a:lnTo>
                        <a:pt x="149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981920" y="2036880"/>
                  <a:ext cx="65880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0" name=""/>
            <p:cNvGrpSpPr/>
            <p:nvPr/>
          </p:nvGrpSpPr>
          <p:grpSpPr>
            <a:xfrm>
              <a:off x="6516720" y="1892160"/>
              <a:ext cx="803160" cy="373320"/>
              <a:chOff x="6516720" y="1892160"/>
              <a:chExt cx="803160" cy="373320"/>
            </a:xfrm>
          </p:grpSpPr>
          <p:sp>
            <p:nvSpPr>
              <p:cNvPr id="1301" name=""/>
              <p:cNvSpPr/>
              <p:nvPr/>
            </p:nvSpPr>
            <p:spPr>
              <a:xfrm>
                <a:off x="6519960" y="1949400"/>
                <a:ext cx="790560" cy="3160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519960" y="1892160"/>
                <a:ext cx="788760" cy="3146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516720" y="207324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762600" y="221616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921360" y="22273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072200" y="221760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229520" y="2165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319880" y="206532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622920" y="21765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705720" y="1943280"/>
                <a:ext cx="425160" cy="212400"/>
              </a:xfrm>
              <a:custGeom>
                <a:avLst/>
                <a:gdLst/>
                <a:ahLst/>
                <a:rect l="l" t="t" r="r" b="b"/>
                <a:pathLst>
                  <a:path w="268" h="134">
                    <a:moveTo>
                      <a:pt x="148" y="15"/>
                    </a:moveTo>
                    <a:lnTo>
                      <a:pt x="83" y="8"/>
                    </a:lnTo>
                    <a:lnTo>
                      <a:pt x="31" y="19"/>
                    </a:lnTo>
                    <a:lnTo>
                      <a:pt x="4" y="41"/>
                    </a:lnTo>
                    <a:lnTo>
                      <a:pt x="0" y="68"/>
                    </a:lnTo>
                    <a:lnTo>
                      <a:pt x="13" y="92"/>
                    </a:lnTo>
                    <a:lnTo>
                      <a:pt x="30" y="108"/>
                    </a:lnTo>
                    <a:lnTo>
                      <a:pt x="40" y="106"/>
                    </a:lnTo>
                    <a:lnTo>
                      <a:pt x="78" y="129"/>
                    </a:lnTo>
                    <a:lnTo>
                      <a:pt x="84" y="112"/>
                    </a:lnTo>
                    <a:lnTo>
                      <a:pt x="107" y="122"/>
                    </a:lnTo>
                    <a:lnTo>
                      <a:pt x="138" y="115"/>
                    </a:lnTo>
                    <a:lnTo>
                      <a:pt x="142" y="89"/>
                    </a:lnTo>
                    <a:lnTo>
                      <a:pt x="167" y="97"/>
                    </a:lnTo>
                    <a:lnTo>
                      <a:pt x="174" y="115"/>
                    </a:lnTo>
                    <a:lnTo>
                      <a:pt x="194" y="133"/>
                    </a:lnTo>
                    <a:lnTo>
                      <a:pt x="237" y="117"/>
                    </a:lnTo>
                    <a:lnTo>
                      <a:pt x="264" y="94"/>
                    </a:lnTo>
                    <a:lnTo>
                      <a:pt x="267" y="61"/>
                    </a:lnTo>
                    <a:lnTo>
                      <a:pt x="242" y="39"/>
                    </a:lnTo>
                    <a:lnTo>
                      <a:pt x="169" y="40"/>
                    </a:lnTo>
                    <a:lnTo>
                      <a:pt x="159" y="19"/>
                    </a:lnTo>
                    <a:lnTo>
                      <a:pt x="184" y="40"/>
                    </a:lnTo>
                    <a:lnTo>
                      <a:pt x="216" y="20"/>
                    </a:lnTo>
                    <a:lnTo>
                      <a:pt x="229" y="15"/>
                    </a:lnTo>
                    <a:lnTo>
                      <a:pt x="210" y="0"/>
                    </a:lnTo>
                    <a:lnTo>
                      <a:pt x="174" y="6"/>
                    </a:lnTo>
                    <a:lnTo>
                      <a:pt x="148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591240" y="1916280"/>
                <a:ext cx="66204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6411960" y="1779480"/>
              <a:ext cx="799920" cy="370080"/>
              <a:chOff x="6411960" y="1779480"/>
              <a:chExt cx="799920" cy="3700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415200" y="1835280"/>
                <a:ext cx="788760" cy="314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413400" y="1779480"/>
                <a:ext cx="789120" cy="3114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411960" y="19591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657840" y="210024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815160" y="2111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64200" y="210168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121520" y="205092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211880" y="194940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516720" y="206388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599160" y="1828800"/>
                <a:ext cx="425520" cy="210960"/>
              </a:xfrm>
              <a:custGeom>
                <a:avLst/>
                <a:gdLst/>
                <a:ahLst/>
                <a:rect l="l" t="t" r="r" b="b"/>
                <a:pathLst>
                  <a:path w="268" h="133">
                    <a:moveTo>
                      <a:pt x="147" y="14"/>
                    </a:moveTo>
                    <a:lnTo>
                      <a:pt x="83" y="7"/>
                    </a:lnTo>
                    <a:lnTo>
                      <a:pt x="32" y="18"/>
                    </a:lnTo>
                    <a:lnTo>
                      <a:pt x="4" y="40"/>
                    </a:lnTo>
                    <a:lnTo>
                      <a:pt x="0" y="68"/>
                    </a:lnTo>
                    <a:lnTo>
                      <a:pt x="14" y="92"/>
                    </a:lnTo>
                    <a:lnTo>
                      <a:pt x="31" y="109"/>
                    </a:lnTo>
                    <a:lnTo>
                      <a:pt x="41" y="105"/>
                    </a:lnTo>
                    <a:lnTo>
                      <a:pt x="78" y="130"/>
                    </a:lnTo>
                    <a:lnTo>
                      <a:pt x="85" y="111"/>
                    </a:lnTo>
                    <a:lnTo>
                      <a:pt x="107" y="122"/>
                    </a:lnTo>
                    <a:lnTo>
                      <a:pt x="137" y="115"/>
                    </a:lnTo>
                    <a:lnTo>
                      <a:pt x="143" y="88"/>
                    </a:lnTo>
                    <a:lnTo>
                      <a:pt x="167" y="97"/>
                    </a:lnTo>
                    <a:lnTo>
                      <a:pt x="173" y="115"/>
                    </a:lnTo>
                    <a:lnTo>
                      <a:pt x="195" y="132"/>
                    </a:lnTo>
                    <a:lnTo>
                      <a:pt x="237" y="117"/>
                    </a:lnTo>
                    <a:lnTo>
                      <a:pt x="263" y="93"/>
                    </a:lnTo>
                    <a:lnTo>
                      <a:pt x="267" y="61"/>
                    </a:lnTo>
                    <a:lnTo>
                      <a:pt x="241" y="39"/>
                    </a:lnTo>
                    <a:lnTo>
                      <a:pt x="168" y="39"/>
                    </a:lnTo>
                    <a:lnTo>
                      <a:pt x="160" y="18"/>
                    </a:lnTo>
                    <a:lnTo>
                      <a:pt x="184" y="39"/>
                    </a:lnTo>
                    <a:lnTo>
                      <a:pt x="217" y="19"/>
                    </a:lnTo>
                    <a:lnTo>
                      <a:pt x="228" y="14"/>
                    </a:lnTo>
                    <a:lnTo>
                      <a:pt x="209" y="0"/>
                    </a:lnTo>
                    <a:lnTo>
                      <a:pt x="173" y="4"/>
                    </a:lnTo>
                    <a:lnTo>
                      <a:pt x="147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85040" y="1801800"/>
                <a:ext cx="66024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6537240" y="1711440"/>
              <a:ext cx="803520" cy="369720"/>
              <a:chOff x="6537240" y="1711440"/>
              <a:chExt cx="803520" cy="369720"/>
            </a:xfrm>
          </p:grpSpPr>
          <p:sp>
            <p:nvSpPr>
              <p:cNvPr id="1325" name=""/>
              <p:cNvSpPr/>
              <p:nvPr/>
            </p:nvSpPr>
            <p:spPr>
              <a:xfrm>
                <a:off x="6540480" y="1771560"/>
                <a:ext cx="792360" cy="3096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540480" y="1711440"/>
                <a:ext cx="785880" cy="3124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537240" y="18921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83480" y="203364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42240" y="20448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89840" y="203508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250040" y="19843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340760" y="188280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642000" y="199548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723000" y="1763640"/>
                <a:ext cx="428760" cy="208080"/>
              </a:xfrm>
              <a:custGeom>
                <a:avLst/>
                <a:gdLst/>
                <a:ahLst/>
                <a:rect l="l" t="t" r="r" b="b"/>
                <a:pathLst>
                  <a:path w="270" h="131">
                    <a:moveTo>
                      <a:pt x="148" y="13"/>
                    </a:moveTo>
                    <a:lnTo>
                      <a:pt x="85" y="7"/>
                    </a:lnTo>
                    <a:lnTo>
                      <a:pt x="31" y="18"/>
                    </a:lnTo>
                    <a:lnTo>
                      <a:pt x="4" y="40"/>
                    </a:lnTo>
                    <a:lnTo>
                      <a:pt x="0" y="67"/>
                    </a:lnTo>
                    <a:lnTo>
                      <a:pt x="13" y="90"/>
                    </a:lnTo>
                    <a:lnTo>
                      <a:pt x="30" y="106"/>
                    </a:lnTo>
                    <a:lnTo>
                      <a:pt x="40" y="105"/>
                    </a:lnTo>
                    <a:lnTo>
                      <a:pt x="78" y="128"/>
                    </a:lnTo>
                    <a:lnTo>
                      <a:pt x="85" y="110"/>
                    </a:lnTo>
                    <a:lnTo>
                      <a:pt x="108" y="120"/>
                    </a:lnTo>
                    <a:lnTo>
                      <a:pt x="139" y="113"/>
                    </a:lnTo>
                    <a:lnTo>
                      <a:pt x="144" y="87"/>
                    </a:lnTo>
                    <a:lnTo>
                      <a:pt x="168" y="96"/>
                    </a:lnTo>
                    <a:lnTo>
                      <a:pt x="176" y="113"/>
                    </a:lnTo>
                    <a:lnTo>
                      <a:pt x="196" y="130"/>
                    </a:lnTo>
                    <a:lnTo>
                      <a:pt x="238" y="116"/>
                    </a:lnTo>
                    <a:lnTo>
                      <a:pt x="266" y="92"/>
                    </a:lnTo>
                    <a:lnTo>
                      <a:pt x="269" y="59"/>
                    </a:lnTo>
                    <a:lnTo>
                      <a:pt x="243" y="38"/>
                    </a:lnTo>
                    <a:lnTo>
                      <a:pt x="170" y="38"/>
                    </a:lnTo>
                    <a:lnTo>
                      <a:pt x="162" y="18"/>
                    </a:lnTo>
                    <a:lnTo>
                      <a:pt x="186" y="38"/>
                    </a:lnTo>
                    <a:lnTo>
                      <a:pt x="218" y="19"/>
                    </a:lnTo>
                    <a:lnTo>
                      <a:pt x="230" y="13"/>
                    </a:lnTo>
                    <a:lnTo>
                      <a:pt x="211" y="0"/>
                    </a:lnTo>
                    <a:lnTo>
                      <a:pt x="176" y="4"/>
                    </a:lnTo>
                    <a:lnTo>
                      <a:pt x="148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610320" y="1736640"/>
                <a:ext cx="66060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6507000" y="1627200"/>
              <a:ext cx="803520" cy="369720"/>
              <a:chOff x="6507000" y="1627200"/>
              <a:chExt cx="803520" cy="369720"/>
            </a:xfrm>
          </p:grpSpPr>
          <p:sp>
            <p:nvSpPr>
              <p:cNvPr id="1337" name=""/>
              <p:cNvSpPr/>
              <p:nvPr/>
            </p:nvSpPr>
            <p:spPr>
              <a:xfrm>
                <a:off x="6510240" y="1685880"/>
                <a:ext cx="790560" cy="31104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10240" y="1627200"/>
                <a:ext cx="789120" cy="3096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507000" y="18082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53240" y="194796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912000" y="195912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061040" y="194940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219800" y="189864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310520" y="179856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613560" y="1908000"/>
                <a:ext cx="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694560" y="1677960"/>
                <a:ext cx="428400" cy="209520"/>
              </a:xfrm>
              <a:custGeom>
                <a:avLst/>
                <a:gdLst/>
                <a:ahLst/>
                <a:rect l="l" t="t" r="r" b="b"/>
                <a:pathLst>
                  <a:path w="270" h="132">
                    <a:moveTo>
                      <a:pt x="149" y="14"/>
                    </a:moveTo>
                    <a:lnTo>
                      <a:pt x="85" y="7"/>
                    </a:lnTo>
                    <a:lnTo>
                      <a:pt x="31" y="18"/>
                    </a:lnTo>
                    <a:lnTo>
                      <a:pt x="4" y="41"/>
                    </a:lnTo>
                    <a:lnTo>
                      <a:pt x="0" y="68"/>
                    </a:lnTo>
                    <a:lnTo>
                      <a:pt x="14" y="91"/>
                    </a:lnTo>
                    <a:lnTo>
                      <a:pt x="31" y="108"/>
                    </a:lnTo>
                    <a:lnTo>
                      <a:pt x="40" y="106"/>
                    </a:lnTo>
                    <a:lnTo>
                      <a:pt x="78" y="129"/>
                    </a:lnTo>
                    <a:lnTo>
                      <a:pt x="86" y="110"/>
                    </a:lnTo>
                    <a:lnTo>
                      <a:pt x="107" y="121"/>
                    </a:lnTo>
                    <a:lnTo>
                      <a:pt x="139" y="114"/>
                    </a:lnTo>
                    <a:lnTo>
                      <a:pt x="144" y="88"/>
                    </a:lnTo>
                    <a:lnTo>
                      <a:pt x="168" y="96"/>
                    </a:lnTo>
                    <a:lnTo>
                      <a:pt x="176" y="114"/>
                    </a:lnTo>
                    <a:lnTo>
                      <a:pt x="196" y="131"/>
                    </a:lnTo>
                    <a:lnTo>
                      <a:pt x="238" y="117"/>
                    </a:lnTo>
                    <a:lnTo>
                      <a:pt x="266" y="93"/>
                    </a:lnTo>
                    <a:lnTo>
                      <a:pt x="269" y="60"/>
                    </a:lnTo>
                    <a:lnTo>
                      <a:pt x="243" y="38"/>
                    </a:lnTo>
                    <a:lnTo>
                      <a:pt x="170" y="39"/>
                    </a:lnTo>
                    <a:lnTo>
                      <a:pt x="162" y="18"/>
                    </a:lnTo>
                    <a:lnTo>
                      <a:pt x="186" y="39"/>
                    </a:lnTo>
                    <a:lnTo>
                      <a:pt x="218" y="20"/>
                    </a:lnTo>
                    <a:lnTo>
                      <a:pt x="231" y="14"/>
                    </a:lnTo>
                    <a:lnTo>
                      <a:pt x="211" y="0"/>
                    </a:lnTo>
                    <a:lnTo>
                      <a:pt x="176" y="4"/>
                    </a:lnTo>
                    <a:lnTo>
                      <a:pt x="149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581880" y="1649520"/>
                <a:ext cx="66024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6477120" y="1503360"/>
              <a:ext cx="803160" cy="369720"/>
              <a:chOff x="6477120" y="1503360"/>
              <a:chExt cx="803160" cy="369720"/>
            </a:xfrm>
          </p:grpSpPr>
          <p:sp>
            <p:nvSpPr>
              <p:cNvPr id="1349" name=""/>
              <p:cNvSpPr/>
              <p:nvPr/>
            </p:nvSpPr>
            <p:spPr>
              <a:xfrm>
                <a:off x="6481800" y="1562040"/>
                <a:ext cx="790560" cy="31104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480000" y="1503360"/>
                <a:ext cx="790920" cy="3096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477120" y="1684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23000" y="182412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81760" y="183348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032600" y="182556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191360" y="177624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280280" y="1674720"/>
                <a:ext cx="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85120" y="178596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665760" y="1552680"/>
                <a:ext cx="427320" cy="212760"/>
              </a:xfrm>
              <a:custGeom>
                <a:avLst/>
                <a:gdLst/>
                <a:ahLst/>
                <a:rect l="l" t="t" r="r" b="b"/>
                <a:pathLst>
                  <a:path w="269" h="134">
                    <a:moveTo>
                      <a:pt x="148" y="15"/>
                    </a:moveTo>
                    <a:lnTo>
                      <a:pt x="84" y="8"/>
                    </a:lnTo>
                    <a:lnTo>
                      <a:pt x="32" y="20"/>
                    </a:lnTo>
                    <a:lnTo>
                      <a:pt x="4" y="41"/>
                    </a:lnTo>
                    <a:lnTo>
                      <a:pt x="0" y="68"/>
                    </a:lnTo>
                    <a:lnTo>
                      <a:pt x="14" y="93"/>
                    </a:lnTo>
                    <a:lnTo>
                      <a:pt x="31" y="108"/>
                    </a:lnTo>
                    <a:lnTo>
                      <a:pt x="40" y="106"/>
                    </a:lnTo>
                    <a:lnTo>
                      <a:pt x="78" y="129"/>
                    </a:lnTo>
                    <a:lnTo>
                      <a:pt x="85" y="112"/>
                    </a:lnTo>
                    <a:lnTo>
                      <a:pt x="108" y="122"/>
                    </a:lnTo>
                    <a:lnTo>
                      <a:pt x="138" y="115"/>
                    </a:lnTo>
                    <a:lnTo>
                      <a:pt x="143" y="89"/>
                    </a:lnTo>
                    <a:lnTo>
                      <a:pt x="167" y="97"/>
                    </a:lnTo>
                    <a:lnTo>
                      <a:pt x="175" y="115"/>
                    </a:lnTo>
                    <a:lnTo>
                      <a:pt x="195" y="133"/>
                    </a:lnTo>
                    <a:lnTo>
                      <a:pt x="238" y="117"/>
                    </a:lnTo>
                    <a:lnTo>
                      <a:pt x="265" y="94"/>
                    </a:lnTo>
                    <a:lnTo>
                      <a:pt x="268" y="61"/>
                    </a:lnTo>
                    <a:lnTo>
                      <a:pt x="242" y="40"/>
                    </a:lnTo>
                    <a:lnTo>
                      <a:pt x="170" y="40"/>
                    </a:lnTo>
                    <a:lnTo>
                      <a:pt x="160" y="20"/>
                    </a:lnTo>
                    <a:lnTo>
                      <a:pt x="184" y="40"/>
                    </a:lnTo>
                    <a:lnTo>
                      <a:pt x="217" y="20"/>
                    </a:lnTo>
                    <a:lnTo>
                      <a:pt x="230" y="15"/>
                    </a:lnTo>
                    <a:lnTo>
                      <a:pt x="211" y="0"/>
                    </a:lnTo>
                    <a:lnTo>
                      <a:pt x="175" y="6"/>
                    </a:lnTo>
                    <a:lnTo>
                      <a:pt x="148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553080" y="1525680"/>
                <a:ext cx="66060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6469200" y="1406520"/>
              <a:ext cx="801720" cy="371520"/>
              <a:chOff x="6469200" y="1406520"/>
              <a:chExt cx="801720" cy="371520"/>
            </a:xfrm>
          </p:grpSpPr>
          <p:sp>
            <p:nvSpPr>
              <p:cNvPr id="1361" name=""/>
              <p:cNvSpPr/>
              <p:nvPr/>
            </p:nvSpPr>
            <p:spPr>
              <a:xfrm>
                <a:off x="6472080" y="1463760"/>
                <a:ext cx="790560" cy="314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70640" y="1406520"/>
                <a:ext cx="790560" cy="3142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469200" y="15876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13640" y="17287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873840" y="1739880"/>
                <a:ext cx="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021440" y="173052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82000" y="167940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270920" y="1577880"/>
                <a:ext cx="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75400" y="169056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56400" y="1457280"/>
                <a:ext cx="426960" cy="212760"/>
              </a:xfrm>
              <a:custGeom>
                <a:avLst/>
                <a:gdLst/>
                <a:ahLst/>
                <a:rect l="l" t="t" r="r" b="b"/>
                <a:pathLst>
                  <a:path w="269" h="134">
                    <a:moveTo>
                      <a:pt x="148" y="14"/>
                    </a:moveTo>
                    <a:lnTo>
                      <a:pt x="84" y="8"/>
                    </a:lnTo>
                    <a:lnTo>
                      <a:pt x="32" y="20"/>
                    </a:lnTo>
                    <a:lnTo>
                      <a:pt x="4" y="42"/>
                    </a:lnTo>
                    <a:lnTo>
                      <a:pt x="0" y="68"/>
                    </a:lnTo>
                    <a:lnTo>
                      <a:pt x="14" y="93"/>
                    </a:lnTo>
                    <a:lnTo>
                      <a:pt x="31" y="109"/>
                    </a:lnTo>
                    <a:lnTo>
                      <a:pt x="40" y="107"/>
                    </a:lnTo>
                    <a:lnTo>
                      <a:pt x="78" y="130"/>
                    </a:lnTo>
                    <a:lnTo>
                      <a:pt x="86" y="112"/>
                    </a:lnTo>
                    <a:lnTo>
                      <a:pt x="107" y="123"/>
                    </a:lnTo>
                    <a:lnTo>
                      <a:pt x="137" y="117"/>
                    </a:lnTo>
                    <a:lnTo>
                      <a:pt x="143" y="89"/>
                    </a:lnTo>
                    <a:lnTo>
                      <a:pt x="168" y="98"/>
                    </a:lnTo>
                    <a:lnTo>
                      <a:pt x="174" y="117"/>
                    </a:lnTo>
                    <a:lnTo>
                      <a:pt x="195" y="133"/>
                    </a:lnTo>
                    <a:lnTo>
                      <a:pt x="237" y="118"/>
                    </a:lnTo>
                    <a:lnTo>
                      <a:pt x="264" y="95"/>
                    </a:lnTo>
                    <a:lnTo>
                      <a:pt x="268" y="62"/>
                    </a:lnTo>
                    <a:lnTo>
                      <a:pt x="242" y="40"/>
                    </a:lnTo>
                    <a:lnTo>
                      <a:pt x="169" y="41"/>
                    </a:lnTo>
                    <a:lnTo>
                      <a:pt x="161" y="20"/>
                    </a:lnTo>
                    <a:lnTo>
                      <a:pt x="185" y="41"/>
                    </a:lnTo>
                    <a:lnTo>
                      <a:pt x="217" y="20"/>
                    </a:lnTo>
                    <a:lnTo>
                      <a:pt x="229" y="14"/>
                    </a:lnTo>
                    <a:lnTo>
                      <a:pt x="210" y="0"/>
                    </a:lnTo>
                    <a:lnTo>
                      <a:pt x="174" y="5"/>
                    </a:lnTo>
                    <a:lnTo>
                      <a:pt x="148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543720" y="1430280"/>
                <a:ext cx="65880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6411960" y="1271520"/>
              <a:ext cx="799920" cy="372960"/>
              <a:chOff x="6411960" y="1271520"/>
              <a:chExt cx="799920" cy="372960"/>
            </a:xfrm>
          </p:grpSpPr>
          <p:sp>
            <p:nvSpPr>
              <p:cNvPr id="1373" name=""/>
              <p:cNvSpPr/>
              <p:nvPr/>
            </p:nvSpPr>
            <p:spPr>
              <a:xfrm>
                <a:off x="6415200" y="1330200"/>
                <a:ext cx="788760" cy="314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413400" y="1271520"/>
                <a:ext cx="789120" cy="3128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11960" y="145260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657840" y="159552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15160" y="160668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964200" y="159696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121520" y="154620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211880" y="144468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516720" y="155736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599160" y="1322280"/>
                <a:ext cx="425520" cy="212760"/>
              </a:xfrm>
              <a:custGeom>
                <a:avLst/>
                <a:gdLst/>
                <a:ahLst/>
                <a:rect l="l" t="t" r="r" b="b"/>
                <a:pathLst>
                  <a:path w="268" h="134">
                    <a:moveTo>
                      <a:pt x="147" y="14"/>
                    </a:moveTo>
                    <a:lnTo>
                      <a:pt x="83" y="8"/>
                    </a:lnTo>
                    <a:lnTo>
                      <a:pt x="32" y="19"/>
                    </a:lnTo>
                    <a:lnTo>
                      <a:pt x="4" y="41"/>
                    </a:lnTo>
                    <a:lnTo>
                      <a:pt x="0" y="69"/>
                    </a:lnTo>
                    <a:lnTo>
                      <a:pt x="14" y="93"/>
                    </a:lnTo>
                    <a:lnTo>
                      <a:pt x="31" y="109"/>
                    </a:lnTo>
                    <a:lnTo>
                      <a:pt x="41" y="108"/>
                    </a:lnTo>
                    <a:lnTo>
                      <a:pt x="78" y="131"/>
                    </a:lnTo>
                    <a:lnTo>
                      <a:pt x="85" y="112"/>
                    </a:lnTo>
                    <a:lnTo>
                      <a:pt x="107" y="123"/>
                    </a:lnTo>
                    <a:lnTo>
                      <a:pt x="137" y="117"/>
                    </a:lnTo>
                    <a:lnTo>
                      <a:pt x="143" y="89"/>
                    </a:lnTo>
                    <a:lnTo>
                      <a:pt x="167" y="98"/>
                    </a:lnTo>
                    <a:lnTo>
                      <a:pt x="173" y="117"/>
                    </a:lnTo>
                    <a:lnTo>
                      <a:pt x="195" y="133"/>
                    </a:lnTo>
                    <a:lnTo>
                      <a:pt x="237" y="118"/>
                    </a:lnTo>
                    <a:lnTo>
                      <a:pt x="263" y="96"/>
                    </a:lnTo>
                    <a:lnTo>
                      <a:pt x="267" y="62"/>
                    </a:lnTo>
                    <a:lnTo>
                      <a:pt x="241" y="40"/>
                    </a:lnTo>
                    <a:lnTo>
                      <a:pt x="168" y="41"/>
                    </a:lnTo>
                    <a:lnTo>
                      <a:pt x="160" y="19"/>
                    </a:lnTo>
                    <a:lnTo>
                      <a:pt x="184" y="41"/>
                    </a:lnTo>
                    <a:lnTo>
                      <a:pt x="217" y="20"/>
                    </a:lnTo>
                    <a:lnTo>
                      <a:pt x="228" y="14"/>
                    </a:lnTo>
                    <a:lnTo>
                      <a:pt x="209" y="0"/>
                    </a:lnTo>
                    <a:lnTo>
                      <a:pt x="173" y="6"/>
                    </a:lnTo>
                    <a:lnTo>
                      <a:pt x="147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85040" y="1297080"/>
                <a:ext cx="66024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7888320" y="1976400"/>
              <a:ext cx="801720" cy="374760"/>
              <a:chOff x="7888320" y="1976400"/>
              <a:chExt cx="801720" cy="374760"/>
            </a:xfrm>
          </p:grpSpPr>
          <p:sp>
            <p:nvSpPr>
              <p:cNvPr id="1385" name=""/>
              <p:cNvSpPr/>
              <p:nvPr/>
            </p:nvSpPr>
            <p:spPr>
              <a:xfrm>
                <a:off x="7891560" y="2038320"/>
                <a:ext cx="788760" cy="31284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889760" y="1976400"/>
                <a:ext cx="789120" cy="3142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88320" y="21607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132760" y="230184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292960" y="23130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442360" y="230364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599320" y="225108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690040" y="215100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94520" y="226368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075520" y="2030400"/>
                <a:ext cx="426960" cy="211320"/>
              </a:xfrm>
              <a:custGeom>
                <a:avLst/>
                <a:gdLst/>
                <a:ahLst/>
                <a:rect l="l" t="t" r="r" b="b"/>
                <a:pathLst>
                  <a:path w="269" h="133">
                    <a:moveTo>
                      <a:pt x="148" y="15"/>
                    </a:moveTo>
                    <a:lnTo>
                      <a:pt x="85" y="8"/>
                    </a:lnTo>
                    <a:lnTo>
                      <a:pt x="31" y="19"/>
                    </a:lnTo>
                    <a:lnTo>
                      <a:pt x="4" y="41"/>
                    </a:lnTo>
                    <a:lnTo>
                      <a:pt x="0" y="68"/>
                    </a:lnTo>
                    <a:lnTo>
                      <a:pt x="14" y="92"/>
                    </a:lnTo>
                    <a:lnTo>
                      <a:pt x="31" y="107"/>
                    </a:lnTo>
                    <a:lnTo>
                      <a:pt x="40" y="106"/>
                    </a:lnTo>
                    <a:lnTo>
                      <a:pt x="78" y="129"/>
                    </a:lnTo>
                    <a:lnTo>
                      <a:pt x="86" y="111"/>
                    </a:lnTo>
                    <a:lnTo>
                      <a:pt x="107" y="122"/>
                    </a:lnTo>
                    <a:lnTo>
                      <a:pt x="138" y="115"/>
                    </a:lnTo>
                    <a:lnTo>
                      <a:pt x="144" y="87"/>
                    </a:lnTo>
                    <a:lnTo>
                      <a:pt x="167" y="97"/>
                    </a:lnTo>
                    <a:lnTo>
                      <a:pt x="175" y="115"/>
                    </a:lnTo>
                    <a:lnTo>
                      <a:pt x="195" y="132"/>
                    </a:lnTo>
                    <a:lnTo>
                      <a:pt x="237" y="117"/>
                    </a:lnTo>
                    <a:lnTo>
                      <a:pt x="265" y="94"/>
                    </a:lnTo>
                    <a:lnTo>
                      <a:pt x="268" y="61"/>
                    </a:lnTo>
                    <a:lnTo>
                      <a:pt x="242" y="39"/>
                    </a:lnTo>
                    <a:lnTo>
                      <a:pt x="169" y="40"/>
                    </a:lnTo>
                    <a:lnTo>
                      <a:pt x="161" y="19"/>
                    </a:lnTo>
                    <a:lnTo>
                      <a:pt x="185" y="40"/>
                    </a:lnTo>
                    <a:lnTo>
                      <a:pt x="217" y="20"/>
                    </a:lnTo>
                    <a:lnTo>
                      <a:pt x="230" y="15"/>
                    </a:lnTo>
                    <a:lnTo>
                      <a:pt x="211" y="0"/>
                    </a:lnTo>
                    <a:lnTo>
                      <a:pt x="175" y="6"/>
                    </a:lnTo>
                    <a:lnTo>
                      <a:pt x="148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62840" y="2003400"/>
                <a:ext cx="65880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31080" y="1866960"/>
              <a:ext cx="803160" cy="369720"/>
              <a:chOff x="7831080" y="1866960"/>
              <a:chExt cx="803160" cy="369720"/>
            </a:xfrm>
          </p:grpSpPr>
          <p:sp>
            <p:nvSpPr>
              <p:cNvPr id="1397" name=""/>
              <p:cNvSpPr/>
              <p:nvPr/>
            </p:nvSpPr>
            <p:spPr>
              <a:xfrm>
                <a:off x="7834320" y="1922400"/>
                <a:ext cx="790560" cy="314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834320" y="1866960"/>
                <a:ext cx="789120" cy="3096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831080" y="20448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077320" y="21859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236080" y="219852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386920" y="218772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543880" y="213660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634240" y="2036880"/>
                <a:ext cx="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37640" y="214956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020080" y="1916280"/>
                <a:ext cx="425520" cy="210960"/>
              </a:xfrm>
              <a:custGeom>
                <a:avLst/>
                <a:gdLst/>
                <a:ahLst/>
                <a:rect l="l" t="t" r="r" b="b"/>
                <a:pathLst>
                  <a:path w="268" h="133">
                    <a:moveTo>
                      <a:pt x="148" y="13"/>
                    </a:moveTo>
                    <a:lnTo>
                      <a:pt x="83" y="7"/>
                    </a:lnTo>
                    <a:lnTo>
                      <a:pt x="31" y="19"/>
                    </a:lnTo>
                    <a:lnTo>
                      <a:pt x="4" y="40"/>
                    </a:lnTo>
                    <a:lnTo>
                      <a:pt x="0" y="67"/>
                    </a:lnTo>
                    <a:lnTo>
                      <a:pt x="13" y="92"/>
                    </a:lnTo>
                    <a:lnTo>
                      <a:pt x="30" y="108"/>
                    </a:lnTo>
                    <a:lnTo>
                      <a:pt x="40" y="105"/>
                    </a:lnTo>
                    <a:lnTo>
                      <a:pt x="78" y="129"/>
                    </a:lnTo>
                    <a:lnTo>
                      <a:pt x="84" y="111"/>
                    </a:lnTo>
                    <a:lnTo>
                      <a:pt x="107" y="122"/>
                    </a:lnTo>
                    <a:lnTo>
                      <a:pt x="138" y="115"/>
                    </a:lnTo>
                    <a:lnTo>
                      <a:pt x="142" y="88"/>
                    </a:lnTo>
                    <a:lnTo>
                      <a:pt x="167" y="97"/>
                    </a:lnTo>
                    <a:lnTo>
                      <a:pt x="174" y="115"/>
                    </a:lnTo>
                    <a:lnTo>
                      <a:pt x="194" y="132"/>
                    </a:lnTo>
                    <a:lnTo>
                      <a:pt x="237" y="116"/>
                    </a:lnTo>
                    <a:lnTo>
                      <a:pt x="264" y="93"/>
                    </a:lnTo>
                    <a:lnTo>
                      <a:pt x="267" y="61"/>
                    </a:lnTo>
                    <a:lnTo>
                      <a:pt x="242" y="39"/>
                    </a:lnTo>
                    <a:lnTo>
                      <a:pt x="169" y="40"/>
                    </a:lnTo>
                    <a:lnTo>
                      <a:pt x="159" y="19"/>
                    </a:lnTo>
                    <a:lnTo>
                      <a:pt x="184" y="40"/>
                    </a:lnTo>
                    <a:lnTo>
                      <a:pt x="216" y="20"/>
                    </a:lnTo>
                    <a:lnTo>
                      <a:pt x="229" y="13"/>
                    </a:lnTo>
                    <a:lnTo>
                      <a:pt x="210" y="0"/>
                    </a:lnTo>
                    <a:lnTo>
                      <a:pt x="174" y="5"/>
                    </a:lnTo>
                    <a:lnTo>
                      <a:pt x="148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05600" y="1889280"/>
                <a:ext cx="662040" cy="258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7927920" y="1901880"/>
              <a:ext cx="801720" cy="372960"/>
              <a:chOff x="7927920" y="1901880"/>
              <a:chExt cx="801720" cy="372960"/>
            </a:xfrm>
          </p:grpSpPr>
          <p:sp>
            <p:nvSpPr>
              <p:cNvPr id="1409" name=""/>
              <p:cNvSpPr/>
              <p:nvPr/>
            </p:nvSpPr>
            <p:spPr>
              <a:xfrm>
                <a:off x="7932600" y="1960560"/>
                <a:ext cx="787680" cy="314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31160" y="1901880"/>
                <a:ext cx="787320" cy="3142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27920" y="208440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175600" y="222552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334360" y="223848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481960" y="222732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640720" y="217656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729640" y="2075040"/>
                <a:ext cx="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034480" y="2187720"/>
                <a:ext cx="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116920" y="1952640"/>
                <a:ext cx="426960" cy="212760"/>
              </a:xfrm>
              <a:custGeom>
                <a:avLst/>
                <a:gdLst/>
                <a:ahLst/>
                <a:rect l="l" t="t" r="r" b="b"/>
                <a:pathLst>
                  <a:path w="269" h="134">
                    <a:moveTo>
                      <a:pt x="149" y="14"/>
                    </a:moveTo>
                    <a:lnTo>
                      <a:pt x="85" y="8"/>
                    </a:lnTo>
                    <a:lnTo>
                      <a:pt x="31" y="20"/>
                    </a:lnTo>
                    <a:lnTo>
                      <a:pt x="5" y="42"/>
                    </a:lnTo>
                    <a:lnTo>
                      <a:pt x="0" y="69"/>
                    </a:lnTo>
                    <a:lnTo>
                      <a:pt x="14" y="94"/>
                    </a:lnTo>
                    <a:lnTo>
                      <a:pt x="31" y="109"/>
                    </a:lnTo>
                    <a:lnTo>
                      <a:pt x="41" y="108"/>
                    </a:lnTo>
                    <a:lnTo>
                      <a:pt x="79" y="130"/>
                    </a:lnTo>
                    <a:lnTo>
                      <a:pt x="86" y="112"/>
                    </a:lnTo>
                    <a:lnTo>
                      <a:pt x="108" y="123"/>
                    </a:lnTo>
                    <a:lnTo>
                      <a:pt x="138" y="117"/>
                    </a:lnTo>
                    <a:lnTo>
                      <a:pt x="144" y="89"/>
                    </a:lnTo>
                    <a:lnTo>
                      <a:pt x="168" y="98"/>
                    </a:lnTo>
                    <a:lnTo>
                      <a:pt x="175" y="117"/>
                    </a:lnTo>
                    <a:lnTo>
                      <a:pt x="195" y="133"/>
                    </a:lnTo>
                    <a:lnTo>
                      <a:pt x="237" y="118"/>
                    </a:lnTo>
                    <a:lnTo>
                      <a:pt x="265" y="96"/>
                    </a:lnTo>
                    <a:lnTo>
                      <a:pt x="268" y="62"/>
                    </a:lnTo>
                    <a:lnTo>
                      <a:pt x="243" y="41"/>
                    </a:lnTo>
                    <a:lnTo>
                      <a:pt x="170" y="42"/>
                    </a:lnTo>
                    <a:lnTo>
                      <a:pt x="161" y="20"/>
                    </a:lnTo>
                    <a:lnTo>
                      <a:pt x="185" y="42"/>
                    </a:lnTo>
                    <a:lnTo>
                      <a:pt x="217" y="21"/>
                    </a:lnTo>
                    <a:lnTo>
                      <a:pt x="230" y="14"/>
                    </a:lnTo>
                    <a:lnTo>
                      <a:pt x="211" y="0"/>
                    </a:lnTo>
                    <a:lnTo>
                      <a:pt x="175" y="6"/>
                    </a:lnTo>
                    <a:lnTo>
                      <a:pt x="149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002440" y="1927080"/>
                <a:ext cx="658800" cy="260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0" name=""/>
          <p:cNvSpPr/>
          <p:nvPr/>
        </p:nvSpPr>
        <p:spPr>
          <a:xfrm>
            <a:off x="192240" y="5486400"/>
            <a:ext cx="300816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914400" y="6019920"/>
            <a:ext cx="7373880" cy="576360"/>
            <a:chOff x="914400" y="6019920"/>
            <a:chExt cx="7373880" cy="576360"/>
          </a:xfrm>
        </p:grpSpPr>
        <p:sp>
          <p:nvSpPr>
            <p:cNvPr id="1422" name=""/>
            <p:cNvSpPr/>
            <p:nvPr/>
          </p:nvSpPr>
          <p:spPr>
            <a:xfrm>
              <a:off x="914400" y="6019920"/>
              <a:ext cx="1279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.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86200" y="6019920"/>
              <a:ext cx="1500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0.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705720" y="6019920"/>
              <a:ext cx="15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00.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0" y="609480"/>
            <a:ext cx="6324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OF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600200" y="1600200"/>
            <a:ext cx="28926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 to 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851440" y="5452920"/>
            <a:ext cx="322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2324160" y="2440080"/>
            <a:ext cx="1773000" cy="1430280"/>
          </a:xfrm>
          <a:custGeom>
            <a:avLst/>
            <a:gdLst/>
            <a:ahLst/>
            <a:rect l="l" t="t" r="r" b="b"/>
            <a:pathLst>
              <a:path w="1117" h="901">
                <a:moveTo>
                  <a:pt x="0" y="900"/>
                </a:moveTo>
                <a:lnTo>
                  <a:pt x="250" y="900"/>
                </a:lnTo>
                <a:lnTo>
                  <a:pt x="250" y="0"/>
                </a:lnTo>
                <a:lnTo>
                  <a:pt x="1116" y="0"/>
                </a:lnTo>
              </a:path>
            </a:pathLst>
          </a:custGeom>
          <a:noFill/>
          <a:ln cap="rnd" w="50760">
            <a:solidFill>
              <a:srgbClr val="fafd00"/>
            </a:solidFill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3680" y="2998800"/>
            <a:ext cx="1815840" cy="1663560"/>
          </a:xfrm>
          <a:prstGeom prst="rect">
            <a:avLst/>
          </a:prstGeom>
          <a:gradFill rotWithShape="0">
            <a:gsLst>
              <a:gs pos="0">
                <a:srgbClr val="c8001f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2800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24440" y="3548160"/>
            <a:ext cx="189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op the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uick 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087800" y="2117880"/>
            <a:ext cx="2482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ut budget  - without      quality or process impr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126120" y="3470400"/>
            <a:ext cx="196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wer people do the same work - false produ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86280" y="5397480"/>
            <a:ext cx="1908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re failures errors and r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156840" y="4913280"/>
            <a:ext cx="123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tal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24000" y="3236760"/>
            <a:ext cx="867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616200" y="2471760"/>
            <a:ext cx="559080" cy="812880"/>
          </a:xfrm>
          <a:prstGeom prst="line">
            <a:avLst/>
          </a:prstGeom>
          <a:ln w="127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451560" y="2652840"/>
            <a:ext cx="558720" cy="561960"/>
          </a:xfrm>
          <a:prstGeom prst="line">
            <a:avLst/>
          </a:prstGeom>
          <a:ln w="127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6784560" y="4478400"/>
            <a:ext cx="412920" cy="799920"/>
          </a:xfrm>
          <a:prstGeom prst="line">
            <a:avLst/>
          </a:prstGeom>
          <a:ln w="127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4943160" y="6018120"/>
            <a:ext cx="1066680" cy="108000"/>
          </a:xfrm>
          <a:prstGeom prst="line">
            <a:avLst/>
          </a:prstGeom>
          <a:ln w="127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3687840" y="5514480"/>
            <a:ext cx="930240" cy="669960"/>
          </a:xfrm>
          <a:prstGeom prst="line">
            <a:avLst/>
          </a:prstGeom>
          <a:ln w="127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3506400" y="3153240"/>
            <a:ext cx="1813320" cy="1683720"/>
            <a:chOff x="3506400" y="3153240"/>
            <a:chExt cx="1813320" cy="1683720"/>
          </a:xfrm>
        </p:grpSpPr>
        <p:sp>
          <p:nvSpPr>
            <p:cNvPr id="1442" name=""/>
            <p:cNvSpPr/>
            <p:nvPr/>
          </p:nvSpPr>
          <p:spPr>
            <a:xfrm rot="540000">
              <a:off x="3520440" y="3285720"/>
              <a:ext cx="1722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0600" y="4373640"/>
              <a:ext cx="347760" cy="258840"/>
            </a:xfrm>
            <a:custGeom>
              <a:avLst/>
              <a:gdLst/>
              <a:ahLst/>
              <a:rect l="l" t="t" r="r" b="b"/>
              <a:pathLst>
                <a:path w="219" h="163">
                  <a:moveTo>
                    <a:pt x="0" y="143"/>
                  </a:moveTo>
                  <a:lnTo>
                    <a:pt x="6" y="150"/>
                  </a:lnTo>
                  <a:lnTo>
                    <a:pt x="11" y="156"/>
                  </a:lnTo>
                  <a:lnTo>
                    <a:pt x="18" y="159"/>
                  </a:lnTo>
                  <a:lnTo>
                    <a:pt x="25" y="161"/>
                  </a:lnTo>
                  <a:lnTo>
                    <a:pt x="35" y="161"/>
                  </a:lnTo>
                  <a:lnTo>
                    <a:pt x="42" y="161"/>
                  </a:lnTo>
                  <a:lnTo>
                    <a:pt x="51" y="162"/>
                  </a:lnTo>
                  <a:lnTo>
                    <a:pt x="63" y="162"/>
                  </a:lnTo>
                  <a:lnTo>
                    <a:pt x="80" y="156"/>
                  </a:lnTo>
                  <a:lnTo>
                    <a:pt x="92" y="154"/>
                  </a:lnTo>
                  <a:lnTo>
                    <a:pt x="106" y="150"/>
                  </a:lnTo>
                  <a:lnTo>
                    <a:pt x="115" y="145"/>
                  </a:lnTo>
                  <a:lnTo>
                    <a:pt x="125" y="140"/>
                  </a:lnTo>
                  <a:lnTo>
                    <a:pt x="139" y="133"/>
                  </a:lnTo>
                  <a:lnTo>
                    <a:pt x="147" y="124"/>
                  </a:lnTo>
                  <a:lnTo>
                    <a:pt x="156" y="117"/>
                  </a:lnTo>
                  <a:lnTo>
                    <a:pt x="165" y="107"/>
                  </a:lnTo>
                  <a:lnTo>
                    <a:pt x="173" y="97"/>
                  </a:lnTo>
                  <a:lnTo>
                    <a:pt x="180" y="87"/>
                  </a:lnTo>
                  <a:lnTo>
                    <a:pt x="187" y="77"/>
                  </a:lnTo>
                  <a:lnTo>
                    <a:pt x="193" y="65"/>
                  </a:lnTo>
                  <a:lnTo>
                    <a:pt x="199" y="55"/>
                  </a:lnTo>
                  <a:lnTo>
                    <a:pt x="203" y="43"/>
                  </a:lnTo>
                  <a:lnTo>
                    <a:pt x="206" y="38"/>
                  </a:lnTo>
                  <a:lnTo>
                    <a:pt x="208" y="30"/>
                  </a:lnTo>
                  <a:lnTo>
                    <a:pt x="218" y="0"/>
                  </a:lnTo>
                  <a:lnTo>
                    <a:pt x="209" y="15"/>
                  </a:lnTo>
                  <a:lnTo>
                    <a:pt x="205" y="27"/>
                  </a:lnTo>
                  <a:lnTo>
                    <a:pt x="196" y="37"/>
                  </a:lnTo>
                  <a:lnTo>
                    <a:pt x="190" y="48"/>
                  </a:lnTo>
                  <a:lnTo>
                    <a:pt x="183" y="58"/>
                  </a:lnTo>
                  <a:lnTo>
                    <a:pt x="176" y="67"/>
                  </a:lnTo>
                  <a:lnTo>
                    <a:pt x="167" y="75"/>
                  </a:lnTo>
                  <a:lnTo>
                    <a:pt x="158" y="82"/>
                  </a:lnTo>
                  <a:lnTo>
                    <a:pt x="150" y="89"/>
                  </a:lnTo>
                  <a:lnTo>
                    <a:pt x="140" y="95"/>
                  </a:lnTo>
                  <a:lnTo>
                    <a:pt x="131" y="100"/>
                  </a:lnTo>
                  <a:lnTo>
                    <a:pt x="120" y="105"/>
                  </a:lnTo>
                  <a:lnTo>
                    <a:pt x="106" y="110"/>
                  </a:lnTo>
                  <a:lnTo>
                    <a:pt x="92" y="114"/>
                  </a:lnTo>
                  <a:lnTo>
                    <a:pt x="84" y="115"/>
                  </a:lnTo>
                  <a:lnTo>
                    <a:pt x="70" y="116"/>
                  </a:lnTo>
                  <a:lnTo>
                    <a:pt x="57" y="113"/>
                  </a:lnTo>
                  <a:lnTo>
                    <a:pt x="45" y="110"/>
                  </a:lnTo>
                  <a:lnTo>
                    <a:pt x="34" y="108"/>
                  </a:lnTo>
                  <a:lnTo>
                    <a:pt x="26" y="105"/>
                  </a:lnTo>
                  <a:lnTo>
                    <a:pt x="22" y="97"/>
                  </a:lnTo>
                  <a:lnTo>
                    <a:pt x="17" y="89"/>
                  </a:lnTo>
                  <a:lnTo>
                    <a:pt x="0" y="143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02040" y="4506840"/>
              <a:ext cx="236520" cy="3301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18" y="3"/>
                  </a:moveTo>
                  <a:lnTo>
                    <a:pt x="21" y="0"/>
                  </a:lnTo>
                  <a:lnTo>
                    <a:pt x="32" y="0"/>
                  </a:lnTo>
                  <a:lnTo>
                    <a:pt x="36" y="3"/>
                  </a:lnTo>
                  <a:lnTo>
                    <a:pt x="43" y="6"/>
                  </a:lnTo>
                  <a:lnTo>
                    <a:pt x="55" y="15"/>
                  </a:lnTo>
                  <a:lnTo>
                    <a:pt x="65" y="22"/>
                  </a:lnTo>
                  <a:lnTo>
                    <a:pt x="77" y="33"/>
                  </a:lnTo>
                  <a:lnTo>
                    <a:pt x="87" y="46"/>
                  </a:lnTo>
                  <a:lnTo>
                    <a:pt x="94" y="56"/>
                  </a:lnTo>
                  <a:lnTo>
                    <a:pt x="105" y="71"/>
                  </a:lnTo>
                  <a:lnTo>
                    <a:pt x="109" y="81"/>
                  </a:lnTo>
                  <a:lnTo>
                    <a:pt x="114" y="92"/>
                  </a:lnTo>
                  <a:lnTo>
                    <a:pt x="120" y="108"/>
                  </a:lnTo>
                  <a:lnTo>
                    <a:pt x="123" y="120"/>
                  </a:lnTo>
                  <a:lnTo>
                    <a:pt x="126" y="133"/>
                  </a:lnTo>
                  <a:lnTo>
                    <a:pt x="129" y="145"/>
                  </a:lnTo>
                  <a:lnTo>
                    <a:pt x="129" y="157"/>
                  </a:lnTo>
                  <a:lnTo>
                    <a:pt x="148" y="139"/>
                  </a:lnTo>
                  <a:lnTo>
                    <a:pt x="130" y="207"/>
                  </a:lnTo>
                  <a:lnTo>
                    <a:pt x="88" y="187"/>
                  </a:lnTo>
                  <a:lnTo>
                    <a:pt x="113" y="174"/>
                  </a:lnTo>
                  <a:lnTo>
                    <a:pt x="108" y="160"/>
                  </a:lnTo>
                  <a:lnTo>
                    <a:pt x="105" y="149"/>
                  </a:lnTo>
                  <a:lnTo>
                    <a:pt x="100" y="138"/>
                  </a:lnTo>
                  <a:lnTo>
                    <a:pt x="98" y="125"/>
                  </a:lnTo>
                  <a:lnTo>
                    <a:pt x="90" y="115"/>
                  </a:lnTo>
                  <a:lnTo>
                    <a:pt x="84" y="104"/>
                  </a:lnTo>
                  <a:lnTo>
                    <a:pt x="74" y="91"/>
                  </a:lnTo>
                  <a:lnTo>
                    <a:pt x="68" y="84"/>
                  </a:lnTo>
                  <a:lnTo>
                    <a:pt x="57" y="75"/>
                  </a:lnTo>
                  <a:lnTo>
                    <a:pt x="45" y="66"/>
                  </a:lnTo>
                  <a:lnTo>
                    <a:pt x="35" y="55"/>
                  </a:lnTo>
                  <a:lnTo>
                    <a:pt x="24" y="51"/>
                  </a:lnTo>
                  <a:lnTo>
                    <a:pt x="17" y="51"/>
                  </a:lnTo>
                  <a:lnTo>
                    <a:pt x="9" y="51"/>
                  </a:lnTo>
                  <a:lnTo>
                    <a:pt x="0" y="59"/>
                  </a:lnTo>
                  <a:lnTo>
                    <a:pt x="18" y="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18120" y="3465360"/>
              <a:ext cx="201600" cy="435240"/>
            </a:xfrm>
            <a:custGeom>
              <a:avLst/>
              <a:gdLst/>
              <a:ahLst/>
              <a:rect l="l" t="t" r="r" b="b"/>
              <a:pathLst>
                <a:path w="127" h="274">
                  <a:moveTo>
                    <a:pt x="16" y="0"/>
                  </a:moveTo>
                  <a:lnTo>
                    <a:pt x="29" y="6"/>
                  </a:lnTo>
                  <a:lnTo>
                    <a:pt x="39" y="11"/>
                  </a:lnTo>
                  <a:lnTo>
                    <a:pt x="48" y="21"/>
                  </a:lnTo>
                  <a:lnTo>
                    <a:pt x="62" y="28"/>
                  </a:lnTo>
                  <a:lnTo>
                    <a:pt x="71" y="40"/>
                  </a:lnTo>
                  <a:lnTo>
                    <a:pt x="82" y="53"/>
                  </a:lnTo>
                  <a:lnTo>
                    <a:pt x="92" y="63"/>
                  </a:lnTo>
                  <a:lnTo>
                    <a:pt x="100" y="76"/>
                  </a:lnTo>
                  <a:lnTo>
                    <a:pt x="104" y="85"/>
                  </a:lnTo>
                  <a:lnTo>
                    <a:pt x="109" y="96"/>
                  </a:lnTo>
                  <a:lnTo>
                    <a:pt x="115" y="109"/>
                  </a:lnTo>
                  <a:lnTo>
                    <a:pt x="119" y="124"/>
                  </a:lnTo>
                  <a:lnTo>
                    <a:pt x="123" y="136"/>
                  </a:lnTo>
                  <a:lnTo>
                    <a:pt x="123" y="150"/>
                  </a:lnTo>
                  <a:lnTo>
                    <a:pt x="124" y="163"/>
                  </a:lnTo>
                  <a:lnTo>
                    <a:pt x="124" y="179"/>
                  </a:lnTo>
                  <a:lnTo>
                    <a:pt x="126" y="191"/>
                  </a:lnTo>
                  <a:lnTo>
                    <a:pt x="122" y="205"/>
                  </a:lnTo>
                  <a:lnTo>
                    <a:pt x="124" y="217"/>
                  </a:lnTo>
                  <a:lnTo>
                    <a:pt x="122" y="226"/>
                  </a:lnTo>
                  <a:lnTo>
                    <a:pt x="119" y="235"/>
                  </a:lnTo>
                  <a:lnTo>
                    <a:pt x="116" y="243"/>
                  </a:lnTo>
                  <a:lnTo>
                    <a:pt x="107" y="273"/>
                  </a:lnTo>
                  <a:lnTo>
                    <a:pt x="110" y="256"/>
                  </a:lnTo>
                  <a:lnTo>
                    <a:pt x="112" y="241"/>
                  </a:lnTo>
                  <a:lnTo>
                    <a:pt x="112" y="231"/>
                  </a:lnTo>
                  <a:lnTo>
                    <a:pt x="110" y="217"/>
                  </a:lnTo>
                  <a:lnTo>
                    <a:pt x="110" y="204"/>
                  </a:lnTo>
                  <a:lnTo>
                    <a:pt x="109" y="192"/>
                  </a:lnTo>
                  <a:lnTo>
                    <a:pt x="107" y="179"/>
                  </a:lnTo>
                  <a:lnTo>
                    <a:pt x="105" y="164"/>
                  </a:lnTo>
                  <a:lnTo>
                    <a:pt x="101" y="153"/>
                  </a:lnTo>
                  <a:lnTo>
                    <a:pt x="95" y="142"/>
                  </a:lnTo>
                  <a:lnTo>
                    <a:pt x="91" y="128"/>
                  </a:lnTo>
                  <a:lnTo>
                    <a:pt x="85" y="118"/>
                  </a:lnTo>
                  <a:lnTo>
                    <a:pt x="79" y="106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2" y="78"/>
                  </a:lnTo>
                  <a:lnTo>
                    <a:pt x="40" y="70"/>
                  </a:lnTo>
                  <a:lnTo>
                    <a:pt x="32" y="63"/>
                  </a:lnTo>
                  <a:lnTo>
                    <a:pt x="20" y="58"/>
                  </a:lnTo>
                  <a:lnTo>
                    <a:pt x="12" y="55"/>
                  </a:lnTo>
                  <a:lnTo>
                    <a:pt x="0" y="50"/>
                  </a:lnTo>
                  <a:lnTo>
                    <a:pt x="1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959360" y="3852720"/>
              <a:ext cx="344520" cy="255600"/>
            </a:xfrm>
            <a:custGeom>
              <a:avLst/>
              <a:gdLst/>
              <a:ahLst/>
              <a:rect l="l" t="t" r="r" b="b"/>
              <a:pathLst>
                <a:path w="217" h="161">
                  <a:moveTo>
                    <a:pt x="0" y="143"/>
                  </a:moveTo>
                  <a:lnTo>
                    <a:pt x="6" y="149"/>
                  </a:lnTo>
                  <a:lnTo>
                    <a:pt x="9" y="155"/>
                  </a:lnTo>
                  <a:lnTo>
                    <a:pt x="14" y="156"/>
                  </a:lnTo>
                  <a:lnTo>
                    <a:pt x="23" y="160"/>
                  </a:lnTo>
                  <a:lnTo>
                    <a:pt x="32" y="160"/>
                  </a:lnTo>
                  <a:lnTo>
                    <a:pt x="39" y="159"/>
                  </a:lnTo>
                  <a:lnTo>
                    <a:pt x="47" y="160"/>
                  </a:lnTo>
                  <a:lnTo>
                    <a:pt x="62" y="160"/>
                  </a:lnTo>
                  <a:lnTo>
                    <a:pt x="80" y="155"/>
                  </a:lnTo>
                  <a:lnTo>
                    <a:pt x="89" y="154"/>
                  </a:lnTo>
                  <a:lnTo>
                    <a:pt x="103" y="149"/>
                  </a:lnTo>
                  <a:lnTo>
                    <a:pt x="113" y="147"/>
                  </a:lnTo>
                  <a:lnTo>
                    <a:pt x="123" y="141"/>
                  </a:lnTo>
                  <a:lnTo>
                    <a:pt x="138" y="133"/>
                  </a:lnTo>
                  <a:lnTo>
                    <a:pt x="146" y="126"/>
                  </a:lnTo>
                  <a:lnTo>
                    <a:pt x="155" y="119"/>
                  </a:lnTo>
                  <a:lnTo>
                    <a:pt x="164" y="107"/>
                  </a:lnTo>
                  <a:lnTo>
                    <a:pt x="172" y="100"/>
                  </a:lnTo>
                  <a:lnTo>
                    <a:pt x="180" y="86"/>
                  </a:lnTo>
                  <a:lnTo>
                    <a:pt x="187" y="76"/>
                  </a:lnTo>
                  <a:lnTo>
                    <a:pt x="192" y="65"/>
                  </a:lnTo>
                  <a:lnTo>
                    <a:pt x="198" y="55"/>
                  </a:lnTo>
                  <a:lnTo>
                    <a:pt x="201" y="45"/>
                  </a:lnTo>
                  <a:lnTo>
                    <a:pt x="204" y="38"/>
                  </a:lnTo>
                  <a:lnTo>
                    <a:pt x="206" y="30"/>
                  </a:lnTo>
                  <a:lnTo>
                    <a:pt x="216" y="0"/>
                  </a:lnTo>
                  <a:lnTo>
                    <a:pt x="209" y="13"/>
                  </a:lnTo>
                  <a:lnTo>
                    <a:pt x="202" y="25"/>
                  </a:lnTo>
                  <a:lnTo>
                    <a:pt x="197" y="38"/>
                  </a:lnTo>
                  <a:lnTo>
                    <a:pt x="188" y="48"/>
                  </a:lnTo>
                  <a:lnTo>
                    <a:pt x="182" y="57"/>
                  </a:lnTo>
                  <a:lnTo>
                    <a:pt x="175" y="67"/>
                  </a:lnTo>
                  <a:lnTo>
                    <a:pt x="168" y="73"/>
                  </a:lnTo>
                  <a:lnTo>
                    <a:pt x="157" y="83"/>
                  </a:lnTo>
                  <a:lnTo>
                    <a:pt x="148" y="90"/>
                  </a:lnTo>
                  <a:lnTo>
                    <a:pt x="137" y="96"/>
                  </a:lnTo>
                  <a:lnTo>
                    <a:pt x="127" y="102"/>
                  </a:lnTo>
                  <a:lnTo>
                    <a:pt x="116" y="107"/>
                  </a:lnTo>
                  <a:lnTo>
                    <a:pt x="105" y="111"/>
                  </a:lnTo>
                  <a:lnTo>
                    <a:pt x="92" y="116"/>
                  </a:lnTo>
                  <a:lnTo>
                    <a:pt x="81" y="117"/>
                  </a:lnTo>
                  <a:lnTo>
                    <a:pt x="68" y="116"/>
                  </a:lnTo>
                  <a:lnTo>
                    <a:pt x="54" y="114"/>
                  </a:lnTo>
                  <a:lnTo>
                    <a:pt x="44" y="110"/>
                  </a:lnTo>
                  <a:lnTo>
                    <a:pt x="34" y="107"/>
                  </a:lnTo>
                  <a:lnTo>
                    <a:pt x="26" y="104"/>
                  </a:lnTo>
                  <a:lnTo>
                    <a:pt x="19" y="99"/>
                  </a:lnTo>
                  <a:lnTo>
                    <a:pt x="16" y="89"/>
                  </a:lnTo>
                  <a:lnTo>
                    <a:pt x="0" y="143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59360" y="3987720"/>
              <a:ext cx="204840" cy="426960"/>
            </a:xfrm>
            <a:custGeom>
              <a:avLst/>
              <a:gdLst/>
              <a:ahLst/>
              <a:rect l="l" t="t" r="r" b="b"/>
              <a:pathLst>
                <a:path w="129" h="269">
                  <a:moveTo>
                    <a:pt x="16" y="1"/>
                  </a:moveTo>
                  <a:lnTo>
                    <a:pt x="20" y="1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53" y="15"/>
                  </a:lnTo>
                  <a:lnTo>
                    <a:pt x="65" y="23"/>
                  </a:lnTo>
                  <a:lnTo>
                    <a:pt x="75" y="31"/>
                  </a:lnTo>
                  <a:lnTo>
                    <a:pt x="87" y="44"/>
                  </a:lnTo>
                  <a:lnTo>
                    <a:pt x="95" y="54"/>
                  </a:lnTo>
                  <a:lnTo>
                    <a:pt x="103" y="69"/>
                  </a:lnTo>
                  <a:lnTo>
                    <a:pt x="107" y="78"/>
                  </a:lnTo>
                  <a:lnTo>
                    <a:pt x="113" y="89"/>
                  </a:lnTo>
                  <a:lnTo>
                    <a:pt x="119" y="106"/>
                  </a:lnTo>
                  <a:lnTo>
                    <a:pt x="123" y="119"/>
                  </a:lnTo>
                  <a:lnTo>
                    <a:pt x="124" y="131"/>
                  </a:lnTo>
                  <a:lnTo>
                    <a:pt x="127" y="145"/>
                  </a:lnTo>
                  <a:lnTo>
                    <a:pt x="127" y="157"/>
                  </a:lnTo>
                  <a:lnTo>
                    <a:pt x="126" y="173"/>
                  </a:lnTo>
                  <a:lnTo>
                    <a:pt x="128" y="186"/>
                  </a:lnTo>
                  <a:lnTo>
                    <a:pt x="125" y="200"/>
                  </a:lnTo>
                  <a:lnTo>
                    <a:pt x="126" y="211"/>
                  </a:lnTo>
                  <a:lnTo>
                    <a:pt x="123" y="220"/>
                  </a:lnTo>
                  <a:lnTo>
                    <a:pt x="121" y="227"/>
                  </a:lnTo>
                  <a:lnTo>
                    <a:pt x="118" y="237"/>
                  </a:lnTo>
                  <a:lnTo>
                    <a:pt x="109" y="268"/>
                  </a:lnTo>
                  <a:lnTo>
                    <a:pt x="112" y="251"/>
                  </a:lnTo>
                  <a:lnTo>
                    <a:pt x="114" y="235"/>
                  </a:lnTo>
                  <a:lnTo>
                    <a:pt x="113" y="223"/>
                  </a:lnTo>
                  <a:lnTo>
                    <a:pt x="114" y="209"/>
                  </a:lnTo>
                  <a:lnTo>
                    <a:pt x="113" y="197"/>
                  </a:lnTo>
                  <a:lnTo>
                    <a:pt x="113" y="187"/>
                  </a:lnTo>
                  <a:lnTo>
                    <a:pt x="110" y="174"/>
                  </a:lnTo>
                  <a:lnTo>
                    <a:pt x="108" y="160"/>
                  </a:lnTo>
                  <a:lnTo>
                    <a:pt x="105" y="146"/>
                  </a:lnTo>
                  <a:lnTo>
                    <a:pt x="99" y="136"/>
                  </a:lnTo>
                  <a:lnTo>
                    <a:pt x="94" y="123"/>
                  </a:lnTo>
                  <a:lnTo>
                    <a:pt x="89" y="113"/>
                  </a:lnTo>
                  <a:lnTo>
                    <a:pt x="83" y="100"/>
                  </a:lnTo>
                  <a:lnTo>
                    <a:pt x="75" y="87"/>
                  </a:lnTo>
                  <a:lnTo>
                    <a:pt x="66" y="80"/>
                  </a:lnTo>
                  <a:lnTo>
                    <a:pt x="54" y="71"/>
                  </a:lnTo>
                  <a:lnTo>
                    <a:pt x="43" y="62"/>
                  </a:lnTo>
                  <a:lnTo>
                    <a:pt x="33" y="53"/>
                  </a:lnTo>
                  <a:lnTo>
                    <a:pt x="22" y="51"/>
                  </a:lnTo>
                  <a:lnTo>
                    <a:pt x="16" y="48"/>
                  </a:lnTo>
                  <a:lnTo>
                    <a:pt x="8" y="49"/>
                  </a:lnTo>
                  <a:lnTo>
                    <a:pt x="0" y="56"/>
                  </a:lnTo>
                  <a:lnTo>
                    <a:pt x="16" y="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4102200" y="3397320"/>
            <a:ext cx="1249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ath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iral”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06360" y="1000080"/>
            <a:ext cx="857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cious Cycle of  “Quick Fix” Cost Cu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999"/>
            </a:gs>
            <a:gs pos="50000">
              <a:srgbClr val="1f10e4"/>
            </a:gs>
            <a:gs pos="100000">
              <a:srgbClr val="5b7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2286000" y="2286000"/>
            <a:ext cx="2006640" cy="1430280"/>
          </a:xfrm>
          <a:custGeom>
            <a:avLst/>
            <a:gdLst/>
            <a:ahLst/>
            <a:rect l="l" t="t" r="r" b="b"/>
            <a:pathLst>
              <a:path w="1264" h="901">
                <a:moveTo>
                  <a:pt x="0" y="900"/>
                </a:moveTo>
                <a:lnTo>
                  <a:pt x="283" y="900"/>
                </a:lnTo>
                <a:lnTo>
                  <a:pt x="283" y="0"/>
                </a:lnTo>
                <a:lnTo>
                  <a:pt x="1263" y="0"/>
                </a:lnTo>
              </a:path>
            </a:pathLst>
          </a:custGeom>
          <a:noFill/>
          <a:ln cap="rnd" w="50760">
            <a:solidFill>
              <a:srgbClr val="fafd00"/>
            </a:solidFill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15960" y="3206880"/>
            <a:ext cx="1816200" cy="1663560"/>
          </a:xfrm>
          <a:prstGeom prst="rect">
            <a:avLst/>
          </a:prstGeom>
          <a:solidFill>
            <a:srgbClr val="00ff00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1280" y="3452760"/>
            <a:ext cx="1749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-term cost    of  quality and total qual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367160" y="2062080"/>
            <a:ext cx="213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ams improve processes and produ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62760" y="5345280"/>
            <a:ext cx="146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crease in   total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220920" y="5324400"/>
            <a:ext cx="2384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proved quality and profi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709720" y="3486240"/>
            <a:ext cx="226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vest in quality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3921120" y="2679480"/>
            <a:ext cx="558720" cy="812520"/>
          </a:xfrm>
          <a:prstGeom prst="line">
            <a:avLst/>
          </a:prstGeom>
          <a:ln w="127080">
            <a:solidFill>
              <a:srgbClr val="53f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53360" y="2793960"/>
            <a:ext cx="647640" cy="460440"/>
          </a:xfrm>
          <a:prstGeom prst="line">
            <a:avLst/>
          </a:prstGeom>
          <a:ln w="127080">
            <a:solidFill>
              <a:srgbClr val="53f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079760" y="4381560"/>
            <a:ext cx="412920" cy="799920"/>
          </a:xfrm>
          <a:prstGeom prst="line">
            <a:avLst/>
          </a:prstGeom>
          <a:ln w="127080">
            <a:solidFill>
              <a:srgbClr val="53f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 flipV="1">
            <a:off x="4938480" y="6035400"/>
            <a:ext cx="1058760" cy="190440"/>
          </a:xfrm>
          <a:prstGeom prst="line">
            <a:avLst/>
          </a:prstGeom>
          <a:ln w="127080">
            <a:solidFill>
              <a:srgbClr val="53f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 flipV="1">
            <a:off x="3546000" y="4154400"/>
            <a:ext cx="298440" cy="1082880"/>
          </a:xfrm>
          <a:prstGeom prst="line">
            <a:avLst/>
          </a:prstGeom>
          <a:ln w="127080">
            <a:solidFill>
              <a:srgbClr val="53f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446880" y="3524400"/>
            <a:ext cx="174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wer defects       and r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609480"/>
            <a:ext cx="9121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 Term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3:17:48Z</dcterms:created>
  <dc:creator>Dave Gubics</dc:creator>
  <dc:description/>
  <dc:language>en-US</dc:language>
  <cp:lastModifiedBy>rubbermaid</cp:lastModifiedBy>
  <cp:lastPrinted>2000-04-24T16:11:12Z</cp:lastPrinted>
  <dcterms:modified xsi:type="dcterms:W3CDTF">2003-09-23T19:40:10Z</dcterms:modified>
  <cp:revision>30</cp:revision>
  <dc:subject/>
  <dc:title>No Slide Title</dc:title>
</cp:coreProperties>
</file>