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630988" cy="964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6FC4-5F2A-4B09-8652-B9CDC5860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EA8E-EF97-4ECE-8118-3E60C093B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990E-6F72-4B50-B869-67E22E29D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70D1-1042-4ABA-87DC-1E9DB33D9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4453E-8753-4740-A413-5F08AB9CF4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6C58F-A4F6-4969-A868-4BB36643AC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2AF49-B61F-471C-BAA5-A50703F19B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BAAB1-FB9F-4723-8580-9F7B40B45B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41005-C84F-43E3-88B5-0211648368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0C245-2D12-40CA-A0EC-2710C11CBA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325CF-0596-4B01-9BBA-4F9796E28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9D31-3F2F-41F9-99F3-00BD02D5F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9654F-8EF5-42B4-BD38-C6447A60F4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338CB-9958-4917-8B11-3BE8D01243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360DA-46AF-4399-B358-1F31D083AF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B317C-3330-46B4-AD23-A1A384104D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9EB3B-DC83-4B54-B525-7891341CF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B37E-76E6-461B-BC64-C73FEB0B7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5721-848B-42BD-8A60-98402BA49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3914-93C3-41FB-AEFC-7C018E5BB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F604-BFB1-4F57-9E11-28E9889A6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5898-76A3-4937-A36E-FF9EDD983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2177-E84B-4088-82D9-F6F62675F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D678-E4E5-420C-9551-8A982E9A0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114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114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08C2-73C2-4186-96C4-A920B66AD57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114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114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B56-3E9F-4303-8EA6-839ED2A07C8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TPM Guid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Productive Mainten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2. Equipment and process improvement</a:t>
            </a:r>
            <a:br>
              <a:rPr sz="28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2.1. Equipment loss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71600" y="1905120"/>
            <a:ext cx="6400800" cy="3657600"/>
            <a:chOff x="1371600" y="1905120"/>
            <a:chExt cx="6400800" cy="3657600"/>
          </a:xfrm>
        </p:grpSpPr>
        <p:sp>
          <p:nvSpPr>
            <p:cNvPr id="112" name=""/>
            <p:cNvSpPr/>
            <p:nvPr/>
          </p:nvSpPr>
          <p:spPr>
            <a:xfrm>
              <a:off x="1371600" y="1905120"/>
              <a:ext cx="1600200" cy="9144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owntim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o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1600" y="3276720"/>
              <a:ext cx="1600200" cy="9144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peed lo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600" y="4648320"/>
              <a:ext cx="1600200" cy="9144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Quality lo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1905120"/>
              <a:ext cx="4191120" cy="38088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quipment failure / breakdow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2438280"/>
              <a:ext cx="4191120" cy="3812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et-up / adjust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1280" y="3276720"/>
              <a:ext cx="4191120" cy="38088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inor stopping / idl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280" y="3809880"/>
              <a:ext cx="4191120" cy="3812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duced spe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1280" y="4648320"/>
              <a:ext cx="4191120" cy="38088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rocess err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1280" y="5181480"/>
              <a:ext cx="4191120" cy="3812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work / scr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2. Equipment and process improvement</a:t>
            </a:r>
            <a:br>
              <a:rPr sz="28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2.2. Manpower and material loss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1905120"/>
            <a:ext cx="1600200" cy="1981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np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4419720"/>
            <a:ext cx="1600200" cy="14475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1905120"/>
            <a:ext cx="419112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leaning and chec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971800"/>
            <a:ext cx="419112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aiting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3505320"/>
            <a:ext cx="419112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aiting quality confi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4419720"/>
            <a:ext cx="419112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 yi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952880"/>
            <a:ext cx="4191120" cy="3812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nergy lo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438280"/>
            <a:ext cx="4191120" cy="3812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aiting materi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486400"/>
            <a:ext cx="419112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nsumable material lo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2. Equipment and process improvement</a:t>
            </a:r>
            <a:br>
              <a:rPr sz="28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2.3 Overall Equipment Effectiveness (OEE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EE figures are determined by combining the availability and performance of your equipment with the quality of parts m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EE measures the efficiency of the machine during its planned loading time. Planned downtime does not effect the OEE figu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2. Equipment and process improvement</a:t>
            </a:r>
            <a:br>
              <a:rPr sz="28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2.3 Overall Equipment Effectiveness (OEE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752480"/>
            <a:ext cx="8458200" cy="685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all Equipment Effectiveness = Availability x Performance x Quality Yi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895480"/>
            <a:ext cx="6705720" cy="685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2895480"/>
            <a:ext cx="1752480" cy="685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8400" y="30772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26120" y="306000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owntime lo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038480"/>
            <a:ext cx="4953240" cy="685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4038480"/>
            <a:ext cx="1752480" cy="685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8004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77040" y="4212360"/>
            <a:ext cx="13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peed lo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28960" y="41886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181480"/>
            <a:ext cx="3200400" cy="685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181480"/>
            <a:ext cx="1752840" cy="685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97000" y="535536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Quality Yi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79920" y="53506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Quality lo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2. Equipment and process improvement</a:t>
            </a:r>
            <a:br>
              <a:rPr sz="28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2.3 Overall Equipment Effectiveness (OEE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752480"/>
            <a:ext cx="8458200" cy="685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all Equipment Effectiveness = Availability x Performance x Quality Yi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819520"/>
            <a:ext cx="8458200" cy="7617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9048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vailability =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ime available for production - dow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ime available for p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038480"/>
            <a:ext cx="8458200" cy="685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8004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0921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 =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ideal cycle time x number of parts produced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181480"/>
            <a:ext cx="8458200" cy="685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2635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Quality Yield =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otal number of parts produced - defect numb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number of parts produc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4.3. Planned maintenanc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establish Preventative and Predictive Maintenance systems for equipment and too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life cycle of individual machine elements must be achie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ct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ct set-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br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ghte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edback and repair of minor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spare p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4.4. Early Management of new equipmen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Objective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systems to shorte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product or equipment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-up, commissioning and stabilization time for quality and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equipment needs to b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to ope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to cle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to maintain and reli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quick set-up ti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e at the lowest life cycle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4.5. Process Quality Managemen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efinit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cess for controlling the condition of equipment components that affect variability in product qua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Objective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t and maintain conditions to accomplish zero def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Quality r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a direct correlation wi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 cond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preci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on meth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6. TPM in administrative and support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and support departments can be seen as process plants whose principal tasks are to collect, process, and distribute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alysis should be applied to streamline information f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4.7. Education and training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P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continuous learning proc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major compon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oft sk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raining: how to work as teams, diversity training and  communication sk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raining: upgrading problem-solving and equipment- related sk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1. TPM definition (1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mpany-wide team-based effort to build quality into equipment and to improve overall equipment effective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employees are invol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ims to eliminate all accidents, defects and breakdow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s are performed while production goes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oubles for production are minim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in good cond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air, clean, lubr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4.8. Safety and environmental managemen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ring safety and preventing adverse environmental impacts are important priorities in any TPM eff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3 requirements for fundamental improvemen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motivation: changing peoples attitu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competency and peoples sk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ing the work environment, so that it supports the establishment of a program for implementing TP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2 step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371600"/>
            <a:ext cx="1752480" cy="1905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3352680"/>
            <a:ext cx="1752480" cy="3812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Kick-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809880"/>
            <a:ext cx="1752480" cy="1905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1371600"/>
            <a:ext cx="662940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nouncement to introduce T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1752480"/>
            <a:ext cx="6629400" cy="3812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troductory education campaign for the workfo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2133720"/>
            <a:ext cx="662940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PM Promotion (special committe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2514600"/>
            <a:ext cx="6629400" cy="4572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stablish basic TPM policies and go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6629400" cy="3812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eparation and Formulation of a master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352680"/>
            <a:ext cx="6629400" cy="3812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3809880"/>
            <a:ext cx="6629400" cy="3812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 an equipment management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191120"/>
            <a:ext cx="662940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 a planned maintenance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4572000"/>
            <a:ext cx="662940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 an autonomous maintenance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952880"/>
            <a:ext cx="6629400" cy="3812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rease skills of production and maintenance perso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5791320"/>
            <a:ext cx="662940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ect TPM implementation and raise TPM lev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5791320"/>
            <a:ext cx="175248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bil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334120"/>
            <a:ext cx="6629400" cy="380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 early equipment management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0640" y="3398040"/>
            <a:ext cx="651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ite customers, affiliated companies and subcontr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1. Announce top management’s decision to introduce TP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TPM objectives in a company newslet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ce articles on TPM in the company newspap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2. Introductory education campa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minars for manag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lide presentations for all employ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3. TPM Promotion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committees at every level to promote TP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slet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ic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4. Establish basic TPM policies and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ze existing cond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go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dict 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5. Preparation and Formulation of a master plan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aster plan lays out your goals, what you will do to achieve them and when you will achieve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plans for each pillar have to be prepare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6. TPM kick-off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ain kick-off to TPM should take the form of a formal presentation with all the  employees atte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opportunity can be used to gain the full support of the employ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ite external customers, affiliated and subcontracting compan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7. Develop an equipment management program (1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ools of Total Quality Management and Continuous Improvement are applied to the management and improvement of equi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 project te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model equi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equipment probl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 equipment probl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solutions and proposals for improv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1. TPM definition (2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PM combines the traditionally American practice of preventive maintenance with Total Quality Control and Total Employee Involvement, to create a culture where operators develop ownership of their equipment, and become full partners with Maintenance, Engineering and Management to assure equipment operates properly everyd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7. Develop an equipment management program (2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ical membership of a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ve to seven opera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aintenance per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echnical expe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e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e &amp; eff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ca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8. Develop a planned maintenance  program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up plans and schedules to carry out work on equipment before it breaks down, in order to extend the life of the equip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lude periodic and predictive mainten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lude management of spare parts and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8. Develop a autonomous maintenance  program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handing-over of maintenance tasks from specialized maintenance personnel to production oper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 the seven ste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ks to hand o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bric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pec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-up and adjus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10. Increase skills of production and maintenance personn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aining sessions must be planned shortly after the kick-off present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major compon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 skills trai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trai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 leaders toge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leaders share information with group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11. Develop early equipment management program(1)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inciple of designing for maintenance prevention can be applied to new products, and to new and existing machin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ew produc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st be designed so that they can be easily produced on new or existing mach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ew machi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st be designed for easier operations, changeover and mainten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11. Develop early equipment management program(2)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Existing machi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 historical records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nds of types of fail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quency of component fail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causes of fail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e how to eliminate the problem and reduce maintenance through an equipment design change or by changing the proces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5. TPM Implementation</a:t>
            </a:r>
            <a:br>
              <a:rPr sz="36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12. Perfect TPM implementation and raise TPM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for the PM Award: The Japanese Institute for Productive Maintenance runs the annual PM Excellence Award. They provide a checklist for companies applying for the awa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higher go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6. TPM Benefit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ased equipment productiv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ed equipment down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ased plant capac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er maintenance and production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aching zero equipment-caused def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ed job satisfa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ased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TPM Guid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Productive Mainten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2. Origins of TPM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Deming introduced statistical analysis and used the resulting data to control quality during manufacturing (TQ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general concepts of TQM did not work well in the maintenance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eed to go further than preventive maintenance was quickly recognized by those companies who were committed to TQ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became an integral part of TQM in the early 90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3. TPM principl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ase Overall Equipment Effectiveness (OE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 existing planned maintenance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perator is the best condition mon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training to upgrade operations and maintenance sk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olve everyone and utilize cross-functional teamwor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9320" y="1371600"/>
            <a:ext cx="6858000" cy="4800600"/>
            <a:chOff x="1219320" y="1371600"/>
            <a:chExt cx="6858000" cy="4800600"/>
          </a:xfrm>
        </p:grpSpPr>
        <p:sp>
          <p:nvSpPr>
            <p:cNvPr id="94" name=""/>
            <p:cNvSpPr/>
            <p:nvPr/>
          </p:nvSpPr>
          <p:spPr>
            <a:xfrm rot="16200000">
              <a:off x="-152280" y="3124080"/>
              <a:ext cx="4191120" cy="6858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utonomous Mainten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990360" y="3124080"/>
              <a:ext cx="4191120" cy="6858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lanned Mainten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2057040" y="3124080"/>
              <a:ext cx="4191120" cy="6858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quipment and process improv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3124080" y="3124080"/>
              <a:ext cx="4191120" cy="6858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arly management of new equip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4190760" y="3124080"/>
              <a:ext cx="4191120" cy="6858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rocess quality 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5257440" y="3124080"/>
              <a:ext cx="4191120" cy="6858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PM in the off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5562720"/>
              <a:ext cx="6858000" cy="30456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320" y="5867280"/>
              <a:ext cx="68580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546000" y="553176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ducation and 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59680" y="5836680"/>
            <a:ext cx="44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fety and environmental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4.1. Autonomous Maintenance (1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 the operators to close the gap between them and the maintenance staff, making it easier for both to work as one t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equipment so the operator can identify any abnormal conditions and measure deterioration before it affects the process or leads to a fail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4.1. Autonomous Maintenance (2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 ste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re implemented to progressively increase operators knowledge, participation and responsibility for their equi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Perform initial cleaning and insp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Countermeasures for the causes and effects of dirt and du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Establish cleaning and lubrication standa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Conduct general inspection trai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Carry out equipment inspection che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Workplace management and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Continuous improve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88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4. Eight major pillars of TPM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4.2. Equipment and process improvemen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3040" y="1587600"/>
            <a:ext cx="8223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aximize efficiency by eliminating waste and manufacturing lo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 losses are categorized into 13 big loss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losses (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power losses (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 losses (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02:45:46Z</dcterms:created>
  <dc:creator/>
  <dc:description/>
  <dc:language>en-US</dc:language>
  <cp:lastModifiedBy>rubbermaid</cp:lastModifiedBy>
  <cp:lastPrinted>2003-03-27T19:37:34Z</cp:lastPrinted>
  <dcterms:modified xsi:type="dcterms:W3CDTF">2003-08-29T04:40:19Z</dcterms:modified>
  <cp:revision>171</cp:revision>
  <dc:subject/>
  <dc:title>The TPM Guide</dc:title>
</cp:coreProperties>
</file>